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86058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360" y="3610440"/>
            <a:ext cx="86058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600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6360" y="36104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6000" y="36104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6240" y="11426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120" y="11426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6360" y="36104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6240" y="36104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120" y="3610440"/>
            <a:ext cx="277092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6360" y="1142640"/>
            <a:ext cx="8605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860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419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6000" y="1142640"/>
            <a:ext cx="419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9061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6000" y="1142640"/>
            <a:ext cx="419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6360" y="36104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419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600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0" y="36104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0" y="1142640"/>
            <a:ext cx="41994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6360" y="3610440"/>
            <a:ext cx="8605800" cy="22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1142640"/>
            <a:ext cx="860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0400" indent="-2304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15960" indent="-22860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901880" indent="-22716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901880" indent="-227160">
              <a:spcBef>
                <a:spcPts val="451"/>
              </a:spcBef>
              <a:buClr>
                <a:srgbClr val="022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901880" indent="-227160">
              <a:spcBef>
                <a:spcPts val="451"/>
              </a:spcBef>
              <a:buClr>
                <a:srgbClr val="022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53120"/>
            <a:ext cx="8605800" cy="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43480"/>
            <a:ext cx="33908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000" spc="-1" strike="noStrike">
                <a:solidFill>
                  <a:srgbClr val="003366"/>
                </a:solidFill>
                <a:latin typeface="Times New Roman"/>
              </a:rPr>
              <a:t>Présentation e-Fournisseur – Le 06/10/04 page </a:t>
            </a:r>
            <a:fld id="{7EC4D7EB-A0D1-4D21-BAB0-618516153D5D}" type="slidenum">
              <a:rPr b="0" lang="fr-FR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23080" y="593568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29520" y="6243480"/>
            <a:ext cx="2066760" cy="4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66360" y="1142640"/>
            <a:ext cx="860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6720" y="1278000"/>
            <a:ext cx="3800520" cy="21826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22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22040"/>
                </a:solidFill>
                <a:latin typeface="Comic Sans MS"/>
              </a:rPr>
              <a:t>Portail Internet</a:t>
            </a: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22040"/>
                </a:solidFill>
                <a:latin typeface="Comic Sans MS"/>
              </a:rPr>
              <a:t>Fournisseur</a:t>
            </a: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204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4960" y="2125800"/>
            <a:ext cx="1623600" cy="1480680"/>
            <a:chOff x="2874960" y="2125800"/>
            <a:chExt cx="1623600" cy="1480680"/>
          </a:xfrm>
        </p:grpSpPr>
        <p:sp>
          <p:nvSpPr>
            <p:cNvPr id="45" name=""/>
            <p:cNvSpPr/>
            <p:nvPr/>
          </p:nvSpPr>
          <p:spPr>
            <a:xfrm>
              <a:off x="2874960" y="2175480"/>
              <a:ext cx="1522800" cy="1310040"/>
            </a:xfrm>
            <a:custGeom>
              <a:avLst/>
              <a:gdLst/>
              <a:ahLst/>
              <a:rect l="l" t="t" r="r" b="b"/>
              <a:pathLst>
                <a:path w="3484" h="2758">
                  <a:moveTo>
                    <a:pt x="389" y="1503"/>
                  </a:moveTo>
                  <a:lnTo>
                    <a:pt x="0" y="35"/>
                  </a:lnTo>
                  <a:lnTo>
                    <a:pt x="3484" y="0"/>
                  </a:lnTo>
                  <a:lnTo>
                    <a:pt x="3261" y="2758"/>
                  </a:lnTo>
                  <a:lnTo>
                    <a:pt x="920" y="2740"/>
                  </a:lnTo>
                  <a:lnTo>
                    <a:pt x="521" y="2394"/>
                  </a:lnTo>
                  <a:lnTo>
                    <a:pt x="389" y="1503"/>
                  </a:lnTo>
                  <a:lnTo>
                    <a:pt x="389" y="1503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23200" y="2125800"/>
              <a:ext cx="1575360" cy="1335600"/>
            </a:xfrm>
            <a:custGeom>
              <a:avLst/>
              <a:gdLst/>
              <a:ahLst/>
              <a:rect l="l" t="t" r="r" b="b"/>
              <a:pathLst>
                <a:path w="3603" h="2810">
                  <a:moveTo>
                    <a:pt x="0" y="0"/>
                  </a:moveTo>
                  <a:lnTo>
                    <a:pt x="598" y="2810"/>
                  </a:lnTo>
                  <a:lnTo>
                    <a:pt x="2951" y="2681"/>
                  </a:lnTo>
                  <a:lnTo>
                    <a:pt x="3603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50880" y="2206800"/>
              <a:ext cx="860400" cy="1375560"/>
            </a:xfrm>
            <a:custGeom>
              <a:avLst/>
              <a:gdLst/>
              <a:ahLst/>
              <a:rect l="l" t="t" r="r" b="b"/>
              <a:pathLst>
                <a:path w="1967" h="2895">
                  <a:moveTo>
                    <a:pt x="390" y="209"/>
                  </a:moveTo>
                  <a:lnTo>
                    <a:pt x="504" y="111"/>
                  </a:lnTo>
                  <a:lnTo>
                    <a:pt x="607" y="65"/>
                  </a:lnTo>
                  <a:lnTo>
                    <a:pt x="728" y="56"/>
                  </a:lnTo>
                  <a:lnTo>
                    <a:pt x="802" y="20"/>
                  </a:lnTo>
                  <a:lnTo>
                    <a:pt x="903" y="0"/>
                  </a:lnTo>
                  <a:lnTo>
                    <a:pt x="1008" y="18"/>
                  </a:lnTo>
                  <a:lnTo>
                    <a:pt x="1090" y="8"/>
                  </a:lnTo>
                  <a:lnTo>
                    <a:pt x="1152" y="35"/>
                  </a:lnTo>
                  <a:lnTo>
                    <a:pt x="1303" y="54"/>
                  </a:lnTo>
                  <a:lnTo>
                    <a:pt x="1378" y="53"/>
                  </a:lnTo>
                  <a:lnTo>
                    <a:pt x="1436" y="126"/>
                  </a:lnTo>
                  <a:lnTo>
                    <a:pt x="1523" y="133"/>
                  </a:lnTo>
                  <a:lnTo>
                    <a:pt x="1686" y="253"/>
                  </a:lnTo>
                  <a:lnTo>
                    <a:pt x="1967" y="774"/>
                  </a:lnTo>
                  <a:lnTo>
                    <a:pt x="1798" y="1728"/>
                  </a:lnTo>
                  <a:lnTo>
                    <a:pt x="1816" y="2468"/>
                  </a:lnTo>
                  <a:lnTo>
                    <a:pt x="1677" y="2426"/>
                  </a:lnTo>
                  <a:lnTo>
                    <a:pt x="1620" y="2075"/>
                  </a:lnTo>
                  <a:lnTo>
                    <a:pt x="1557" y="1963"/>
                  </a:lnTo>
                  <a:lnTo>
                    <a:pt x="1445" y="2037"/>
                  </a:lnTo>
                  <a:lnTo>
                    <a:pt x="1440" y="2371"/>
                  </a:lnTo>
                  <a:lnTo>
                    <a:pt x="1597" y="2823"/>
                  </a:lnTo>
                  <a:lnTo>
                    <a:pt x="1563" y="2895"/>
                  </a:lnTo>
                  <a:lnTo>
                    <a:pt x="1246" y="2886"/>
                  </a:lnTo>
                  <a:lnTo>
                    <a:pt x="1244" y="2810"/>
                  </a:lnTo>
                  <a:lnTo>
                    <a:pt x="1235" y="2338"/>
                  </a:lnTo>
                  <a:lnTo>
                    <a:pt x="1149" y="2099"/>
                  </a:lnTo>
                  <a:lnTo>
                    <a:pt x="990" y="2102"/>
                  </a:lnTo>
                  <a:lnTo>
                    <a:pt x="841" y="2116"/>
                  </a:lnTo>
                  <a:lnTo>
                    <a:pt x="609" y="2014"/>
                  </a:lnTo>
                  <a:lnTo>
                    <a:pt x="509" y="2001"/>
                  </a:lnTo>
                  <a:lnTo>
                    <a:pt x="329" y="2599"/>
                  </a:lnTo>
                  <a:lnTo>
                    <a:pt x="161" y="2662"/>
                  </a:lnTo>
                  <a:lnTo>
                    <a:pt x="0" y="2562"/>
                  </a:lnTo>
                  <a:lnTo>
                    <a:pt x="163" y="2323"/>
                  </a:lnTo>
                  <a:lnTo>
                    <a:pt x="359" y="1875"/>
                  </a:lnTo>
                  <a:lnTo>
                    <a:pt x="244" y="1659"/>
                  </a:lnTo>
                  <a:lnTo>
                    <a:pt x="133" y="1544"/>
                  </a:lnTo>
                  <a:lnTo>
                    <a:pt x="73" y="1257"/>
                  </a:lnTo>
                  <a:lnTo>
                    <a:pt x="66" y="1032"/>
                  </a:lnTo>
                  <a:lnTo>
                    <a:pt x="61" y="780"/>
                  </a:lnTo>
                  <a:lnTo>
                    <a:pt x="117" y="563"/>
                  </a:lnTo>
                  <a:lnTo>
                    <a:pt x="226" y="351"/>
                  </a:lnTo>
                  <a:lnTo>
                    <a:pt x="328" y="236"/>
                  </a:lnTo>
                  <a:lnTo>
                    <a:pt x="390" y="209"/>
                  </a:lnTo>
                  <a:lnTo>
                    <a:pt x="390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73200" y="2226960"/>
              <a:ext cx="789480" cy="648360"/>
            </a:xfrm>
            <a:custGeom>
              <a:avLst/>
              <a:gdLst/>
              <a:ahLst/>
              <a:rect l="l" t="t" r="r" b="b"/>
              <a:pathLst>
                <a:path w="1806" h="1366">
                  <a:moveTo>
                    <a:pt x="14" y="990"/>
                  </a:moveTo>
                  <a:lnTo>
                    <a:pt x="11" y="745"/>
                  </a:lnTo>
                  <a:lnTo>
                    <a:pt x="65" y="678"/>
                  </a:lnTo>
                  <a:lnTo>
                    <a:pt x="117" y="549"/>
                  </a:lnTo>
                  <a:lnTo>
                    <a:pt x="133" y="466"/>
                  </a:lnTo>
                  <a:lnTo>
                    <a:pt x="241" y="279"/>
                  </a:lnTo>
                  <a:lnTo>
                    <a:pt x="308" y="234"/>
                  </a:lnTo>
                  <a:lnTo>
                    <a:pt x="501" y="163"/>
                  </a:lnTo>
                  <a:lnTo>
                    <a:pt x="513" y="91"/>
                  </a:lnTo>
                  <a:lnTo>
                    <a:pt x="587" y="39"/>
                  </a:lnTo>
                  <a:lnTo>
                    <a:pt x="738" y="52"/>
                  </a:lnTo>
                  <a:lnTo>
                    <a:pt x="796" y="0"/>
                  </a:lnTo>
                  <a:lnTo>
                    <a:pt x="956" y="23"/>
                  </a:lnTo>
                  <a:lnTo>
                    <a:pt x="1124" y="30"/>
                  </a:lnTo>
                  <a:lnTo>
                    <a:pt x="1290" y="73"/>
                  </a:lnTo>
                  <a:lnTo>
                    <a:pt x="1367" y="43"/>
                  </a:lnTo>
                  <a:lnTo>
                    <a:pt x="1471" y="91"/>
                  </a:lnTo>
                  <a:lnTo>
                    <a:pt x="1523" y="133"/>
                  </a:lnTo>
                  <a:lnTo>
                    <a:pt x="1595" y="149"/>
                  </a:lnTo>
                  <a:lnTo>
                    <a:pt x="1755" y="308"/>
                  </a:lnTo>
                  <a:lnTo>
                    <a:pt x="1806" y="475"/>
                  </a:lnTo>
                  <a:lnTo>
                    <a:pt x="1572" y="321"/>
                  </a:lnTo>
                  <a:lnTo>
                    <a:pt x="1106" y="164"/>
                  </a:lnTo>
                  <a:lnTo>
                    <a:pt x="795" y="109"/>
                  </a:lnTo>
                  <a:lnTo>
                    <a:pt x="585" y="206"/>
                  </a:lnTo>
                  <a:lnTo>
                    <a:pt x="370" y="293"/>
                  </a:lnTo>
                  <a:lnTo>
                    <a:pt x="238" y="473"/>
                  </a:lnTo>
                  <a:lnTo>
                    <a:pt x="147" y="721"/>
                  </a:lnTo>
                  <a:lnTo>
                    <a:pt x="72" y="929"/>
                  </a:lnTo>
                  <a:lnTo>
                    <a:pt x="54" y="1090"/>
                  </a:lnTo>
                  <a:lnTo>
                    <a:pt x="57" y="1251"/>
                  </a:lnTo>
                  <a:lnTo>
                    <a:pt x="72" y="1366"/>
                  </a:lnTo>
                  <a:lnTo>
                    <a:pt x="0" y="1245"/>
                  </a:lnTo>
                  <a:lnTo>
                    <a:pt x="24" y="1038"/>
                  </a:lnTo>
                  <a:lnTo>
                    <a:pt x="14" y="990"/>
                  </a:lnTo>
                  <a:lnTo>
                    <a:pt x="14" y="99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81120" y="3150360"/>
              <a:ext cx="149400" cy="323280"/>
            </a:xfrm>
            <a:custGeom>
              <a:avLst/>
              <a:gdLst/>
              <a:ahLst/>
              <a:rect l="l" t="t" r="r" b="b"/>
              <a:pathLst>
                <a:path w="342" h="681">
                  <a:moveTo>
                    <a:pt x="272" y="0"/>
                  </a:moveTo>
                  <a:lnTo>
                    <a:pt x="218" y="208"/>
                  </a:lnTo>
                  <a:lnTo>
                    <a:pt x="95" y="482"/>
                  </a:lnTo>
                  <a:lnTo>
                    <a:pt x="1" y="548"/>
                  </a:lnTo>
                  <a:lnTo>
                    <a:pt x="0" y="632"/>
                  </a:lnTo>
                  <a:lnTo>
                    <a:pt x="160" y="681"/>
                  </a:lnTo>
                  <a:lnTo>
                    <a:pt x="342" y="209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0c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92680" y="3247560"/>
              <a:ext cx="155880" cy="344880"/>
            </a:xfrm>
            <a:custGeom>
              <a:avLst/>
              <a:gdLst/>
              <a:ahLst/>
              <a:rect l="l" t="t" r="r" b="b"/>
              <a:pathLst>
                <a:path w="359" h="724">
                  <a:moveTo>
                    <a:pt x="44" y="15"/>
                  </a:moveTo>
                  <a:lnTo>
                    <a:pt x="0" y="76"/>
                  </a:lnTo>
                  <a:lnTo>
                    <a:pt x="71" y="400"/>
                  </a:lnTo>
                  <a:lnTo>
                    <a:pt x="74" y="582"/>
                  </a:lnTo>
                  <a:lnTo>
                    <a:pt x="36" y="691"/>
                  </a:lnTo>
                  <a:lnTo>
                    <a:pt x="270" y="724"/>
                  </a:lnTo>
                  <a:lnTo>
                    <a:pt x="359" y="631"/>
                  </a:lnTo>
                  <a:lnTo>
                    <a:pt x="122" y="0"/>
                  </a:lnTo>
                  <a:lnTo>
                    <a:pt x="44" y="15"/>
                  </a:lnTo>
                  <a:lnTo>
                    <a:pt x="44" y="15"/>
                  </a:lnTo>
                  <a:close/>
                </a:path>
              </a:pathLst>
            </a:custGeom>
            <a:solidFill>
              <a:srgbClr val="f0c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81320" y="3207600"/>
              <a:ext cx="74880" cy="158040"/>
            </a:xfrm>
            <a:custGeom>
              <a:avLst/>
              <a:gdLst/>
              <a:ahLst/>
              <a:rect l="l" t="t" r="r" b="b"/>
              <a:pathLst>
                <a:path w="171" h="334">
                  <a:moveTo>
                    <a:pt x="0" y="0"/>
                  </a:moveTo>
                  <a:lnTo>
                    <a:pt x="50" y="234"/>
                  </a:lnTo>
                  <a:lnTo>
                    <a:pt x="29" y="328"/>
                  </a:lnTo>
                  <a:lnTo>
                    <a:pt x="163" y="334"/>
                  </a:lnTo>
                  <a:lnTo>
                    <a:pt x="171" y="189"/>
                  </a:lnTo>
                  <a:lnTo>
                    <a:pt x="139" y="147"/>
                  </a:lnTo>
                  <a:lnTo>
                    <a:pt x="83" y="85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c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1800" y="3099240"/>
              <a:ext cx="171720" cy="405000"/>
            </a:xfrm>
            <a:custGeom>
              <a:avLst/>
              <a:gdLst/>
              <a:ahLst/>
              <a:rect l="l" t="t" r="r" b="b"/>
              <a:pathLst>
                <a:path w="394" h="853">
                  <a:moveTo>
                    <a:pt x="171" y="0"/>
                  </a:moveTo>
                  <a:lnTo>
                    <a:pt x="128" y="141"/>
                  </a:lnTo>
                  <a:lnTo>
                    <a:pt x="168" y="256"/>
                  </a:lnTo>
                  <a:lnTo>
                    <a:pt x="204" y="308"/>
                  </a:lnTo>
                  <a:lnTo>
                    <a:pt x="75" y="660"/>
                  </a:lnTo>
                  <a:lnTo>
                    <a:pt x="0" y="784"/>
                  </a:lnTo>
                  <a:lnTo>
                    <a:pt x="57" y="853"/>
                  </a:lnTo>
                  <a:lnTo>
                    <a:pt x="152" y="765"/>
                  </a:lnTo>
                  <a:lnTo>
                    <a:pt x="231" y="714"/>
                  </a:lnTo>
                  <a:lnTo>
                    <a:pt x="282" y="396"/>
                  </a:lnTo>
                  <a:lnTo>
                    <a:pt x="394" y="154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ad6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76840" y="3174840"/>
              <a:ext cx="208800" cy="414720"/>
            </a:xfrm>
            <a:custGeom>
              <a:avLst/>
              <a:gdLst/>
              <a:ahLst/>
              <a:rect l="l" t="t" r="r" b="b"/>
              <a:pathLst>
                <a:path w="477" h="874">
                  <a:moveTo>
                    <a:pt x="0" y="74"/>
                  </a:moveTo>
                  <a:lnTo>
                    <a:pt x="40" y="252"/>
                  </a:lnTo>
                  <a:lnTo>
                    <a:pt x="165" y="237"/>
                  </a:lnTo>
                  <a:lnTo>
                    <a:pt x="235" y="452"/>
                  </a:lnTo>
                  <a:lnTo>
                    <a:pt x="289" y="743"/>
                  </a:lnTo>
                  <a:lnTo>
                    <a:pt x="304" y="827"/>
                  </a:lnTo>
                  <a:lnTo>
                    <a:pt x="226" y="873"/>
                  </a:lnTo>
                  <a:lnTo>
                    <a:pt x="350" y="874"/>
                  </a:lnTo>
                  <a:lnTo>
                    <a:pt x="477" y="715"/>
                  </a:lnTo>
                  <a:lnTo>
                    <a:pt x="370" y="510"/>
                  </a:lnTo>
                  <a:lnTo>
                    <a:pt x="241" y="0"/>
                  </a:lnTo>
                  <a:lnTo>
                    <a:pt x="157" y="25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ad6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39560" y="3079440"/>
              <a:ext cx="141480" cy="299160"/>
            </a:xfrm>
            <a:custGeom>
              <a:avLst/>
              <a:gdLst/>
              <a:ahLst/>
              <a:rect l="l" t="t" r="r" b="b"/>
              <a:pathLst>
                <a:path w="325" h="628">
                  <a:moveTo>
                    <a:pt x="0" y="152"/>
                  </a:moveTo>
                  <a:lnTo>
                    <a:pt x="61" y="299"/>
                  </a:lnTo>
                  <a:lnTo>
                    <a:pt x="175" y="394"/>
                  </a:lnTo>
                  <a:lnTo>
                    <a:pt x="260" y="628"/>
                  </a:lnTo>
                  <a:lnTo>
                    <a:pt x="325" y="500"/>
                  </a:lnTo>
                  <a:lnTo>
                    <a:pt x="239" y="228"/>
                  </a:lnTo>
                  <a:lnTo>
                    <a:pt x="211" y="0"/>
                  </a:lnTo>
                  <a:lnTo>
                    <a:pt x="121" y="91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ad6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12440" y="2241000"/>
              <a:ext cx="843480" cy="963720"/>
            </a:xfrm>
            <a:custGeom>
              <a:avLst/>
              <a:gdLst/>
              <a:ahLst/>
              <a:rect l="l" t="t" r="r" b="b"/>
              <a:pathLst>
                <a:path w="1928" h="2028">
                  <a:moveTo>
                    <a:pt x="0" y="768"/>
                  </a:moveTo>
                  <a:lnTo>
                    <a:pt x="28" y="602"/>
                  </a:lnTo>
                  <a:lnTo>
                    <a:pt x="92" y="430"/>
                  </a:lnTo>
                  <a:lnTo>
                    <a:pt x="50" y="472"/>
                  </a:lnTo>
                  <a:lnTo>
                    <a:pt x="109" y="342"/>
                  </a:lnTo>
                  <a:lnTo>
                    <a:pt x="188" y="260"/>
                  </a:lnTo>
                  <a:lnTo>
                    <a:pt x="282" y="220"/>
                  </a:lnTo>
                  <a:lnTo>
                    <a:pt x="219" y="203"/>
                  </a:lnTo>
                  <a:lnTo>
                    <a:pt x="335" y="153"/>
                  </a:lnTo>
                  <a:lnTo>
                    <a:pt x="454" y="106"/>
                  </a:lnTo>
                  <a:lnTo>
                    <a:pt x="502" y="29"/>
                  </a:lnTo>
                  <a:lnTo>
                    <a:pt x="590" y="47"/>
                  </a:lnTo>
                  <a:lnTo>
                    <a:pt x="752" y="42"/>
                  </a:lnTo>
                  <a:lnTo>
                    <a:pt x="691" y="5"/>
                  </a:lnTo>
                  <a:lnTo>
                    <a:pt x="774" y="0"/>
                  </a:lnTo>
                  <a:lnTo>
                    <a:pt x="919" y="39"/>
                  </a:lnTo>
                  <a:lnTo>
                    <a:pt x="1008" y="30"/>
                  </a:lnTo>
                  <a:lnTo>
                    <a:pt x="1205" y="74"/>
                  </a:lnTo>
                  <a:lnTo>
                    <a:pt x="1278" y="75"/>
                  </a:lnTo>
                  <a:lnTo>
                    <a:pt x="1453" y="160"/>
                  </a:lnTo>
                  <a:lnTo>
                    <a:pt x="1521" y="233"/>
                  </a:lnTo>
                  <a:lnTo>
                    <a:pt x="1614" y="312"/>
                  </a:lnTo>
                  <a:lnTo>
                    <a:pt x="1675" y="392"/>
                  </a:lnTo>
                  <a:lnTo>
                    <a:pt x="1727" y="392"/>
                  </a:lnTo>
                  <a:lnTo>
                    <a:pt x="1841" y="508"/>
                  </a:lnTo>
                  <a:lnTo>
                    <a:pt x="1916" y="826"/>
                  </a:lnTo>
                  <a:lnTo>
                    <a:pt x="1898" y="914"/>
                  </a:lnTo>
                  <a:lnTo>
                    <a:pt x="1928" y="1060"/>
                  </a:lnTo>
                  <a:lnTo>
                    <a:pt x="1889" y="1335"/>
                  </a:lnTo>
                  <a:lnTo>
                    <a:pt x="1836" y="1387"/>
                  </a:lnTo>
                  <a:lnTo>
                    <a:pt x="1808" y="1495"/>
                  </a:lnTo>
                  <a:lnTo>
                    <a:pt x="1772" y="1553"/>
                  </a:lnTo>
                  <a:lnTo>
                    <a:pt x="1723" y="1671"/>
                  </a:lnTo>
                  <a:lnTo>
                    <a:pt x="1623" y="1795"/>
                  </a:lnTo>
                  <a:lnTo>
                    <a:pt x="1524" y="1862"/>
                  </a:lnTo>
                  <a:lnTo>
                    <a:pt x="1465" y="1861"/>
                  </a:lnTo>
                  <a:lnTo>
                    <a:pt x="1350" y="1938"/>
                  </a:lnTo>
                  <a:lnTo>
                    <a:pt x="1220" y="1989"/>
                  </a:lnTo>
                  <a:lnTo>
                    <a:pt x="1168" y="1962"/>
                  </a:lnTo>
                  <a:lnTo>
                    <a:pt x="1042" y="2028"/>
                  </a:lnTo>
                  <a:lnTo>
                    <a:pt x="658" y="2028"/>
                  </a:lnTo>
                  <a:lnTo>
                    <a:pt x="483" y="1949"/>
                  </a:lnTo>
                  <a:lnTo>
                    <a:pt x="266" y="1859"/>
                  </a:lnTo>
                  <a:lnTo>
                    <a:pt x="1074" y="1881"/>
                  </a:lnTo>
                  <a:lnTo>
                    <a:pt x="1518" y="1578"/>
                  </a:lnTo>
                  <a:lnTo>
                    <a:pt x="1657" y="1163"/>
                  </a:lnTo>
                  <a:lnTo>
                    <a:pt x="1620" y="698"/>
                  </a:lnTo>
                  <a:lnTo>
                    <a:pt x="1546" y="584"/>
                  </a:lnTo>
                  <a:lnTo>
                    <a:pt x="1389" y="347"/>
                  </a:lnTo>
                  <a:lnTo>
                    <a:pt x="1063" y="166"/>
                  </a:lnTo>
                  <a:lnTo>
                    <a:pt x="798" y="126"/>
                  </a:lnTo>
                  <a:lnTo>
                    <a:pt x="611" y="135"/>
                  </a:lnTo>
                  <a:lnTo>
                    <a:pt x="412" y="221"/>
                  </a:lnTo>
                  <a:lnTo>
                    <a:pt x="275" y="344"/>
                  </a:lnTo>
                  <a:lnTo>
                    <a:pt x="143" y="510"/>
                  </a:lnTo>
                  <a:lnTo>
                    <a:pt x="58" y="690"/>
                  </a:lnTo>
                  <a:lnTo>
                    <a:pt x="4" y="851"/>
                  </a:lnTo>
                  <a:lnTo>
                    <a:pt x="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44400" y="3084840"/>
              <a:ext cx="171720" cy="349200"/>
            </a:xfrm>
            <a:custGeom>
              <a:avLst/>
              <a:gdLst/>
              <a:ahLst/>
              <a:rect l="l" t="t" r="r" b="b"/>
              <a:pathLst>
                <a:path w="392" h="734">
                  <a:moveTo>
                    <a:pt x="392" y="40"/>
                  </a:moveTo>
                  <a:lnTo>
                    <a:pt x="352" y="134"/>
                  </a:lnTo>
                  <a:lnTo>
                    <a:pt x="319" y="218"/>
                  </a:lnTo>
                  <a:lnTo>
                    <a:pt x="286" y="301"/>
                  </a:lnTo>
                  <a:lnTo>
                    <a:pt x="248" y="399"/>
                  </a:lnTo>
                  <a:lnTo>
                    <a:pt x="224" y="448"/>
                  </a:lnTo>
                  <a:lnTo>
                    <a:pt x="199" y="493"/>
                  </a:lnTo>
                  <a:lnTo>
                    <a:pt x="174" y="533"/>
                  </a:lnTo>
                  <a:lnTo>
                    <a:pt x="147" y="572"/>
                  </a:lnTo>
                  <a:lnTo>
                    <a:pt x="117" y="609"/>
                  </a:lnTo>
                  <a:lnTo>
                    <a:pt x="87" y="648"/>
                  </a:lnTo>
                  <a:lnTo>
                    <a:pt x="55" y="690"/>
                  </a:lnTo>
                  <a:lnTo>
                    <a:pt x="24" y="734"/>
                  </a:lnTo>
                  <a:lnTo>
                    <a:pt x="4" y="730"/>
                  </a:lnTo>
                  <a:lnTo>
                    <a:pt x="0" y="705"/>
                  </a:lnTo>
                  <a:lnTo>
                    <a:pt x="30" y="660"/>
                  </a:lnTo>
                  <a:lnTo>
                    <a:pt x="57" y="619"/>
                  </a:lnTo>
                  <a:lnTo>
                    <a:pt x="106" y="545"/>
                  </a:lnTo>
                  <a:lnTo>
                    <a:pt x="148" y="467"/>
                  </a:lnTo>
                  <a:lnTo>
                    <a:pt x="193" y="375"/>
                  </a:lnTo>
                  <a:lnTo>
                    <a:pt x="229" y="279"/>
                  </a:lnTo>
                  <a:lnTo>
                    <a:pt x="262" y="195"/>
                  </a:lnTo>
                  <a:lnTo>
                    <a:pt x="295" y="113"/>
                  </a:lnTo>
                  <a:lnTo>
                    <a:pt x="335" y="19"/>
                  </a:lnTo>
                  <a:lnTo>
                    <a:pt x="350" y="0"/>
                  </a:lnTo>
                  <a:lnTo>
                    <a:pt x="372" y="3"/>
                  </a:lnTo>
                  <a:lnTo>
                    <a:pt x="392" y="40"/>
                  </a:lnTo>
                  <a:lnTo>
                    <a:pt x="39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3680" y="3156480"/>
              <a:ext cx="129600" cy="294840"/>
            </a:xfrm>
            <a:custGeom>
              <a:avLst/>
              <a:gdLst/>
              <a:ahLst/>
              <a:rect l="l" t="t" r="r" b="b"/>
              <a:pathLst>
                <a:path w="295" h="620">
                  <a:moveTo>
                    <a:pt x="295" y="15"/>
                  </a:moveTo>
                  <a:lnTo>
                    <a:pt x="260" y="90"/>
                  </a:lnTo>
                  <a:lnTo>
                    <a:pt x="230" y="158"/>
                  </a:lnTo>
                  <a:lnTo>
                    <a:pt x="178" y="284"/>
                  </a:lnTo>
                  <a:lnTo>
                    <a:pt x="129" y="412"/>
                  </a:lnTo>
                  <a:lnTo>
                    <a:pt x="103" y="484"/>
                  </a:lnTo>
                  <a:lnTo>
                    <a:pt x="76" y="562"/>
                  </a:lnTo>
                  <a:lnTo>
                    <a:pt x="63" y="597"/>
                  </a:lnTo>
                  <a:lnTo>
                    <a:pt x="46" y="618"/>
                  </a:lnTo>
                  <a:lnTo>
                    <a:pt x="22" y="620"/>
                  </a:lnTo>
                  <a:lnTo>
                    <a:pt x="0" y="579"/>
                  </a:lnTo>
                  <a:lnTo>
                    <a:pt x="13" y="542"/>
                  </a:lnTo>
                  <a:lnTo>
                    <a:pt x="42" y="463"/>
                  </a:lnTo>
                  <a:lnTo>
                    <a:pt x="72" y="394"/>
                  </a:lnTo>
                  <a:lnTo>
                    <a:pt x="103" y="330"/>
                  </a:lnTo>
                  <a:lnTo>
                    <a:pt x="135" y="269"/>
                  </a:lnTo>
                  <a:lnTo>
                    <a:pt x="167" y="209"/>
                  </a:lnTo>
                  <a:lnTo>
                    <a:pt x="202" y="148"/>
                  </a:lnTo>
                  <a:lnTo>
                    <a:pt x="236" y="81"/>
                  </a:lnTo>
                  <a:lnTo>
                    <a:pt x="271" y="6"/>
                  </a:lnTo>
                  <a:lnTo>
                    <a:pt x="287" y="0"/>
                  </a:lnTo>
                  <a:lnTo>
                    <a:pt x="295" y="15"/>
                  </a:lnTo>
                  <a:lnTo>
                    <a:pt x="29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41880" y="3413160"/>
              <a:ext cx="94320" cy="83880"/>
            </a:xfrm>
            <a:custGeom>
              <a:avLst/>
              <a:gdLst/>
              <a:ahLst/>
              <a:rect l="l" t="t" r="r" b="b"/>
              <a:pathLst>
                <a:path w="218" h="176">
                  <a:moveTo>
                    <a:pt x="40" y="4"/>
                  </a:moveTo>
                  <a:lnTo>
                    <a:pt x="86" y="37"/>
                  </a:lnTo>
                  <a:lnTo>
                    <a:pt x="136" y="65"/>
                  </a:lnTo>
                  <a:lnTo>
                    <a:pt x="192" y="85"/>
                  </a:lnTo>
                  <a:lnTo>
                    <a:pt x="218" y="140"/>
                  </a:lnTo>
                  <a:lnTo>
                    <a:pt x="209" y="168"/>
                  </a:lnTo>
                  <a:lnTo>
                    <a:pt x="188" y="176"/>
                  </a:lnTo>
                  <a:lnTo>
                    <a:pt x="112" y="121"/>
                  </a:lnTo>
                  <a:lnTo>
                    <a:pt x="5" y="52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45560" y="3425760"/>
              <a:ext cx="91440" cy="83880"/>
            </a:xfrm>
            <a:custGeom>
              <a:avLst/>
              <a:gdLst/>
              <a:ahLst/>
              <a:rect l="l" t="t" r="r" b="b"/>
              <a:pathLst>
                <a:path w="210" h="177">
                  <a:moveTo>
                    <a:pt x="0" y="136"/>
                  </a:moveTo>
                  <a:lnTo>
                    <a:pt x="44" y="93"/>
                  </a:lnTo>
                  <a:lnTo>
                    <a:pt x="90" y="62"/>
                  </a:lnTo>
                  <a:lnTo>
                    <a:pt x="139" y="33"/>
                  </a:lnTo>
                  <a:lnTo>
                    <a:pt x="193" y="0"/>
                  </a:lnTo>
                  <a:lnTo>
                    <a:pt x="210" y="3"/>
                  </a:lnTo>
                  <a:lnTo>
                    <a:pt x="207" y="21"/>
                  </a:lnTo>
                  <a:lnTo>
                    <a:pt x="45" y="174"/>
                  </a:lnTo>
                  <a:lnTo>
                    <a:pt x="5" y="177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15040" y="3157560"/>
              <a:ext cx="88920" cy="282240"/>
            </a:xfrm>
            <a:custGeom>
              <a:avLst/>
              <a:gdLst/>
              <a:ahLst/>
              <a:rect l="l" t="t" r="r" b="b"/>
              <a:pathLst>
                <a:path w="205" h="595">
                  <a:moveTo>
                    <a:pt x="205" y="33"/>
                  </a:moveTo>
                  <a:lnTo>
                    <a:pt x="174" y="116"/>
                  </a:lnTo>
                  <a:lnTo>
                    <a:pt x="147" y="191"/>
                  </a:lnTo>
                  <a:lnTo>
                    <a:pt x="101" y="327"/>
                  </a:lnTo>
                  <a:lnTo>
                    <a:pt x="56" y="577"/>
                  </a:lnTo>
                  <a:lnTo>
                    <a:pt x="27" y="595"/>
                  </a:lnTo>
                  <a:lnTo>
                    <a:pt x="0" y="588"/>
                  </a:lnTo>
                  <a:lnTo>
                    <a:pt x="14" y="443"/>
                  </a:lnTo>
                  <a:lnTo>
                    <a:pt x="47" y="310"/>
                  </a:lnTo>
                  <a:lnTo>
                    <a:pt x="69" y="243"/>
                  </a:lnTo>
                  <a:lnTo>
                    <a:pt x="96" y="173"/>
                  </a:lnTo>
                  <a:lnTo>
                    <a:pt x="125" y="98"/>
                  </a:lnTo>
                  <a:lnTo>
                    <a:pt x="156" y="15"/>
                  </a:lnTo>
                  <a:lnTo>
                    <a:pt x="171" y="0"/>
                  </a:lnTo>
                  <a:lnTo>
                    <a:pt x="190" y="0"/>
                  </a:lnTo>
                  <a:lnTo>
                    <a:pt x="205" y="33"/>
                  </a:lnTo>
                  <a:lnTo>
                    <a:pt x="20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2000" y="3129120"/>
              <a:ext cx="58680" cy="23760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33" y="12"/>
                  </a:moveTo>
                  <a:lnTo>
                    <a:pt x="67" y="120"/>
                  </a:lnTo>
                  <a:lnTo>
                    <a:pt x="102" y="227"/>
                  </a:lnTo>
                  <a:lnTo>
                    <a:pt x="132" y="381"/>
                  </a:lnTo>
                  <a:lnTo>
                    <a:pt x="136" y="480"/>
                  </a:lnTo>
                  <a:lnTo>
                    <a:pt x="118" y="501"/>
                  </a:lnTo>
                  <a:lnTo>
                    <a:pt x="99" y="498"/>
                  </a:lnTo>
                  <a:lnTo>
                    <a:pt x="93" y="396"/>
                  </a:lnTo>
                  <a:lnTo>
                    <a:pt x="51" y="241"/>
                  </a:lnTo>
                  <a:lnTo>
                    <a:pt x="0" y="21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6280" y="3112200"/>
              <a:ext cx="79920" cy="249480"/>
            </a:xfrm>
            <a:custGeom>
              <a:avLst/>
              <a:gdLst/>
              <a:ahLst/>
              <a:rect l="l" t="t" r="r" b="b"/>
              <a:pathLst>
                <a:path w="184" h="524">
                  <a:moveTo>
                    <a:pt x="22" y="7"/>
                  </a:moveTo>
                  <a:lnTo>
                    <a:pt x="109" y="295"/>
                  </a:lnTo>
                  <a:lnTo>
                    <a:pt x="163" y="433"/>
                  </a:lnTo>
                  <a:lnTo>
                    <a:pt x="184" y="506"/>
                  </a:lnTo>
                  <a:lnTo>
                    <a:pt x="179" y="524"/>
                  </a:lnTo>
                  <a:lnTo>
                    <a:pt x="163" y="519"/>
                  </a:lnTo>
                  <a:lnTo>
                    <a:pt x="110" y="455"/>
                  </a:lnTo>
                  <a:lnTo>
                    <a:pt x="55" y="313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77720" y="3358800"/>
              <a:ext cx="85320" cy="34200"/>
            </a:xfrm>
            <a:custGeom>
              <a:avLst/>
              <a:gdLst/>
              <a:ahLst/>
              <a:rect l="l" t="t" r="r" b="b"/>
              <a:pathLst>
                <a:path w="196" h="70">
                  <a:moveTo>
                    <a:pt x="15" y="0"/>
                  </a:moveTo>
                  <a:lnTo>
                    <a:pt x="100" y="2"/>
                  </a:lnTo>
                  <a:lnTo>
                    <a:pt x="181" y="15"/>
                  </a:lnTo>
                  <a:lnTo>
                    <a:pt x="196" y="55"/>
                  </a:lnTo>
                  <a:lnTo>
                    <a:pt x="181" y="70"/>
                  </a:lnTo>
                  <a:lnTo>
                    <a:pt x="155" y="70"/>
                  </a:lnTo>
                  <a:lnTo>
                    <a:pt x="85" y="42"/>
                  </a:lnTo>
                  <a:lnTo>
                    <a:pt x="10" y="24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06520" y="3074760"/>
              <a:ext cx="87840" cy="280800"/>
            </a:xfrm>
            <a:custGeom>
              <a:avLst/>
              <a:gdLst/>
              <a:ahLst/>
              <a:rect l="l" t="t" r="r" b="b"/>
              <a:pathLst>
                <a:path w="202" h="590">
                  <a:moveTo>
                    <a:pt x="58" y="9"/>
                  </a:moveTo>
                  <a:lnTo>
                    <a:pt x="68" y="61"/>
                  </a:lnTo>
                  <a:lnTo>
                    <a:pt x="101" y="187"/>
                  </a:lnTo>
                  <a:lnTo>
                    <a:pt x="137" y="285"/>
                  </a:lnTo>
                  <a:lnTo>
                    <a:pt x="202" y="512"/>
                  </a:lnTo>
                  <a:lnTo>
                    <a:pt x="196" y="543"/>
                  </a:lnTo>
                  <a:lnTo>
                    <a:pt x="175" y="573"/>
                  </a:lnTo>
                  <a:lnTo>
                    <a:pt x="151" y="590"/>
                  </a:lnTo>
                  <a:lnTo>
                    <a:pt x="137" y="579"/>
                  </a:lnTo>
                  <a:lnTo>
                    <a:pt x="92" y="324"/>
                  </a:lnTo>
                  <a:lnTo>
                    <a:pt x="44" y="70"/>
                  </a:lnTo>
                  <a:lnTo>
                    <a:pt x="6" y="40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9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9720" y="2316240"/>
              <a:ext cx="706680" cy="848160"/>
            </a:xfrm>
            <a:custGeom>
              <a:avLst/>
              <a:gdLst/>
              <a:ahLst/>
              <a:rect l="l" t="t" r="r" b="b"/>
              <a:pathLst>
                <a:path w="1615" h="1785">
                  <a:moveTo>
                    <a:pt x="203" y="486"/>
                  </a:moveTo>
                  <a:lnTo>
                    <a:pt x="194" y="427"/>
                  </a:lnTo>
                  <a:lnTo>
                    <a:pt x="179" y="379"/>
                  </a:lnTo>
                  <a:lnTo>
                    <a:pt x="129" y="474"/>
                  </a:lnTo>
                  <a:lnTo>
                    <a:pt x="67" y="601"/>
                  </a:lnTo>
                  <a:lnTo>
                    <a:pt x="0" y="761"/>
                  </a:lnTo>
                  <a:lnTo>
                    <a:pt x="12" y="1015"/>
                  </a:lnTo>
                  <a:lnTo>
                    <a:pt x="10" y="1166"/>
                  </a:lnTo>
                  <a:lnTo>
                    <a:pt x="75" y="1318"/>
                  </a:lnTo>
                  <a:lnTo>
                    <a:pt x="123" y="1397"/>
                  </a:lnTo>
                  <a:lnTo>
                    <a:pt x="256" y="1569"/>
                  </a:lnTo>
                  <a:lnTo>
                    <a:pt x="405" y="1727"/>
                  </a:lnTo>
                  <a:lnTo>
                    <a:pt x="570" y="1724"/>
                  </a:lnTo>
                  <a:lnTo>
                    <a:pt x="651" y="1785"/>
                  </a:lnTo>
                  <a:lnTo>
                    <a:pt x="799" y="1763"/>
                  </a:lnTo>
                  <a:lnTo>
                    <a:pt x="992" y="1785"/>
                  </a:lnTo>
                  <a:lnTo>
                    <a:pt x="1179" y="1679"/>
                  </a:lnTo>
                  <a:lnTo>
                    <a:pt x="1267" y="1628"/>
                  </a:lnTo>
                  <a:lnTo>
                    <a:pt x="1448" y="1401"/>
                  </a:lnTo>
                  <a:lnTo>
                    <a:pt x="1585" y="1115"/>
                  </a:lnTo>
                  <a:lnTo>
                    <a:pt x="1615" y="731"/>
                  </a:lnTo>
                  <a:lnTo>
                    <a:pt x="1436" y="270"/>
                  </a:lnTo>
                  <a:lnTo>
                    <a:pt x="1128" y="62"/>
                  </a:lnTo>
                  <a:lnTo>
                    <a:pt x="878" y="6"/>
                  </a:lnTo>
                  <a:lnTo>
                    <a:pt x="749" y="0"/>
                  </a:lnTo>
                  <a:lnTo>
                    <a:pt x="624" y="27"/>
                  </a:lnTo>
                  <a:lnTo>
                    <a:pt x="453" y="70"/>
                  </a:lnTo>
                  <a:lnTo>
                    <a:pt x="387" y="127"/>
                  </a:lnTo>
                  <a:lnTo>
                    <a:pt x="428" y="142"/>
                  </a:lnTo>
                  <a:lnTo>
                    <a:pt x="402" y="171"/>
                  </a:lnTo>
                  <a:lnTo>
                    <a:pt x="401" y="234"/>
                  </a:lnTo>
                  <a:lnTo>
                    <a:pt x="633" y="155"/>
                  </a:lnTo>
                  <a:lnTo>
                    <a:pt x="887" y="176"/>
                  </a:lnTo>
                  <a:lnTo>
                    <a:pt x="1081" y="267"/>
                  </a:lnTo>
                  <a:lnTo>
                    <a:pt x="1307" y="557"/>
                  </a:lnTo>
                  <a:lnTo>
                    <a:pt x="1255" y="1181"/>
                  </a:lnTo>
                  <a:lnTo>
                    <a:pt x="947" y="1469"/>
                  </a:lnTo>
                  <a:lnTo>
                    <a:pt x="477" y="1425"/>
                  </a:lnTo>
                  <a:lnTo>
                    <a:pt x="172" y="1055"/>
                  </a:lnTo>
                  <a:lnTo>
                    <a:pt x="142" y="670"/>
                  </a:lnTo>
                  <a:lnTo>
                    <a:pt x="203" y="486"/>
                  </a:lnTo>
                  <a:lnTo>
                    <a:pt x="203" y="486"/>
                  </a:lnTo>
                  <a:close/>
                </a:path>
              </a:pathLst>
            </a:custGeom>
            <a:solidFill>
              <a:srgbClr val="ede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76600" y="2543400"/>
              <a:ext cx="370800" cy="367560"/>
            </a:xfrm>
            <a:custGeom>
              <a:avLst/>
              <a:gdLst/>
              <a:ahLst/>
              <a:rect l="l" t="t" r="r" b="b"/>
              <a:pathLst>
                <a:path w="850" h="774">
                  <a:moveTo>
                    <a:pt x="102" y="148"/>
                  </a:moveTo>
                  <a:lnTo>
                    <a:pt x="61" y="211"/>
                  </a:lnTo>
                  <a:lnTo>
                    <a:pt x="0" y="323"/>
                  </a:lnTo>
                  <a:lnTo>
                    <a:pt x="13" y="439"/>
                  </a:lnTo>
                  <a:lnTo>
                    <a:pt x="37" y="586"/>
                  </a:lnTo>
                  <a:lnTo>
                    <a:pt x="174" y="721"/>
                  </a:lnTo>
                  <a:lnTo>
                    <a:pt x="504" y="774"/>
                  </a:lnTo>
                  <a:lnTo>
                    <a:pt x="691" y="701"/>
                  </a:lnTo>
                  <a:lnTo>
                    <a:pt x="832" y="541"/>
                  </a:lnTo>
                  <a:lnTo>
                    <a:pt x="850" y="293"/>
                  </a:lnTo>
                  <a:lnTo>
                    <a:pt x="697" y="87"/>
                  </a:lnTo>
                  <a:lnTo>
                    <a:pt x="483" y="0"/>
                  </a:lnTo>
                  <a:lnTo>
                    <a:pt x="278" y="38"/>
                  </a:lnTo>
                  <a:lnTo>
                    <a:pt x="227" y="66"/>
                  </a:lnTo>
                  <a:lnTo>
                    <a:pt x="302" y="106"/>
                  </a:lnTo>
                  <a:lnTo>
                    <a:pt x="302" y="169"/>
                  </a:lnTo>
                  <a:lnTo>
                    <a:pt x="396" y="181"/>
                  </a:lnTo>
                  <a:lnTo>
                    <a:pt x="506" y="241"/>
                  </a:lnTo>
                  <a:lnTo>
                    <a:pt x="449" y="444"/>
                  </a:lnTo>
                  <a:lnTo>
                    <a:pt x="278" y="438"/>
                  </a:lnTo>
                  <a:lnTo>
                    <a:pt x="179" y="344"/>
                  </a:lnTo>
                  <a:lnTo>
                    <a:pt x="251" y="242"/>
                  </a:lnTo>
                  <a:lnTo>
                    <a:pt x="151" y="221"/>
                  </a:lnTo>
                  <a:lnTo>
                    <a:pt x="102" y="148"/>
                  </a:lnTo>
                  <a:lnTo>
                    <a:pt x="102" y="148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79400" y="2409120"/>
              <a:ext cx="569160" cy="631440"/>
            </a:xfrm>
            <a:custGeom>
              <a:avLst/>
              <a:gdLst/>
              <a:ahLst/>
              <a:rect l="l" t="t" r="r" b="b"/>
              <a:pathLst>
                <a:path w="1304" h="1330">
                  <a:moveTo>
                    <a:pt x="142" y="253"/>
                  </a:moveTo>
                  <a:lnTo>
                    <a:pt x="136" y="330"/>
                  </a:lnTo>
                  <a:lnTo>
                    <a:pt x="216" y="394"/>
                  </a:lnTo>
                  <a:lnTo>
                    <a:pt x="295" y="385"/>
                  </a:lnTo>
                  <a:lnTo>
                    <a:pt x="259" y="493"/>
                  </a:lnTo>
                  <a:lnTo>
                    <a:pt x="223" y="605"/>
                  </a:lnTo>
                  <a:lnTo>
                    <a:pt x="236" y="721"/>
                  </a:lnTo>
                  <a:lnTo>
                    <a:pt x="266" y="797"/>
                  </a:lnTo>
                  <a:lnTo>
                    <a:pt x="296" y="875"/>
                  </a:lnTo>
                  <a:lnTo>
                    <a:pt x="353" y="944"/>
                  </a:lnTo>
                  <a:lnTo>
                    <a:pt x="513" y="1021"/>
                  </a:lnTo>
                  <a:lnTo>
                    <a:pt x="788" y="1045"/>
                  </a:lnTo>
                  <a:lnTo>
                    <a:pt x="914" y="959"/>
                  </a:lnTo>
                  <a:lnTo>
                    <a:pt x="1010" y="847"/>
                  </a:lnTo>
                  <a:lnTo>
                    <a:pt x="1056" y="715"/>
                  </a:lnTo>
                  <a:lnTo>
                    <a:pt x="1041" y="506"/>
                  </a:lnTo>
                  <a:lnTo>
                    <a:pt x="901" y="332"/>
                  </a:lnTo>
                  <a:lnTo>
                    <a:pt x="733" y="254"/>
                  </a:lnTo>
                  <a:lnTo>
                    <a:pt x="411" y="279"/>
                  </a:lnTo>
                  <a:lnTo>
                    <a:pt x="417" y="217"/>
                  </a:lnTo>
                  <a:lnTo>
                    <a:pt x="319" y="142"/>
                  </a:lnTo>
                  <a:lnTo>
                    <a:pt x="389" y="94"/>
                  </a:lnTo>
                  <a:lnTo>
                    <a:pt x="389" y="51"/>
                  </a:lnTo>
                  <a:lnTo>
                    <a:pt x="540" y="3"/>
                  </a:lnTo>
                  <a:lnTo>
                    <a:pt x="700" y="0"/>
                  </a:lnTo>
                  <a:lnTo>
                    <a:pt x="910" y="36"/>
                  </a:lnTo>
                  <a:lnTo>
                    <a:pt x="1073" y="126"/>
                  </a:lnTo>
                  <a:lnTo>
                    <a:pt x="1167" y="297"/>
                  </a:lnTo>
                  <a:lnTo>
                    <a:pt x="1264" y="469"/>
                  </a:lnTo>
                  <a:lnTo>
                    <a:pt x="1304" y="735"/>
                  </a:lnTo>
                  <a:lnTo>
                    <a:pt x="1198" y="1074"/>
                  </a:lnTo>
                  <a:lnTo>
                    <a:pt x="975" y="1277"/>
                  </a:lnTo>
                  <a:lnTo>
                    <a:pt x="724" y="1330"/>
                  </a:lnTo>
                  <a:lnTo>
                    <a:pt x="450" y="1289"/>
                  </a:lnTo>
                  <a:lnTo>
                    <a:pt x="229" y="1171"/>
                  </a:lnTo>
                  <a:lnTo>
                    <a:pt x="81" y="993"/>
                  </a:lnTo>
                  <a:lnTo>
                    <a:pt x="0" y="697"/>
                  </a:lnTo>
                  <a:lnTo>
                    <a:pt x="26" y="432"/>
                  </a:lnTo>
                  <a:lnTo>
                    <a:pt x="91" y="291"/>
                  </a:lnTo>
                  <a:lnTo>
                    <a:pt x="142" y="253"/>
                  </a:lnTo>
                  <a:lnTo>
                    <a:pt x="142" y="253"/>
                  </a:lnTo>
                  <a:close/>
                </a:path>
              </a:pathLst>
            </a:custGeom>
            <a:solidFill>
              <a:srgbClr val="66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5440" y="2635920"/>
              <a:ext cx="153360" cy="15228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72" y="48"/>
                  </a:moveTo>
                  <a:lnTo>
                    <a:pt x="86" y="102"/>
                  </a:lnTo>
                  <a:lnTo>
                    <a:pt x="134" y="112"/>
                  </a:lnTo>
                  <a:lnTo>
                    <a:pt x="161" y="87"/>
                  </a:lnTo>
                  <a:lnTo>
                    <a:pt x="99" y="36"/>
                  </a:lnTo>
                  <a:lnTo>
                    <a:pt x="99" y="0"/>
                  </a:lnTo>
                  <a:lnTo>
                    <a:pt x="243" y="6"/>
                  </a:lnTo>
                  <a:lnTo>
                    <a:pt x="331" y="71"/>
                  </a:lnTo>
                  <a:lnTo>
                    <a:pt x="351" y="144"/>
                  </a:lnTo>
                  <a:lnTo>
                    <a:pt x="334" y="256"/>
                  </a:lnTo>
                  <a:lnTo>
                    <a:pt x="249" y="308"/>
                  </a:lnTo>
                  <a:lnTo>
                    <a:pt x="129" y="323"/>
                  </a:lnTo>
                  <a:lnTo>
                    <a:pt x="35" y="242"/>
                  </a:lnTo>
                  <a:lnTo>
                    <a:pt x="0" y="150"/>
                  </a:lnTo>
                  <a:lnTo>
                    <a:pt x="17" y="81"/>
                  </a:lnTo>
                  <a:lnTo>
                    <a:pt x="72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49480" y="3188880"/>
              <a:ext cx="58680" cy="364680"/>
            </a:xfrm>
            <a:custGeom>
              <a:avLst/>
              <a:gdLst/>
              <a:ahLst/>
              <a:rect l="l" t="t" r="r" b="b"/>
              <a:pathLst>
                <a:path w="136" h="766">
                  <a:moveTo>
                    <a:pt x="70" y="24"/>
                  </a:moveTo>
                  <a:lnTo>
                    <a:pt x="119" y="211"/>
                  </a:lnTo>
                  <a:lnTo>
                    <a:pt x="136" y="381"/>
                  </a:lnTo>
                  <a:lnTo>
                    <a:pt x="127" y="751"/>
                  </a:lnTo>
                  <a:lnTo>
                    <a:pt x="112" y="766"/>
                  </a:lnTo>
                  <a:lnTo>
                    <a:pt x="95" y="750"/>
                  </a:lnTo>
                  <a:lnTo>
                    <a:pt x="84" y="394"/>
                  </a:lnTo>
                  <a:lnTo>
                    <a:pt x="54" y="230"/>
                  </a:lnTo>
                  <a:lnTo>
                    <a:pt x="30" y="142"/>
                  </a:lnTo>
                  <a:lnTo>
                    <a:pt x="0" y="50"/>
                  </a:lnTo>
                  <a:lnTo>
                    <a:pt x="1" y="18"/>
                  </a:lnTo>
                  <a:lnTo>
                    <a:pt x="22" y="0"/>
                  </a:lnTo>
                  <a:lnTo>
                    <a:pt x="70" y="24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4000" y="3182040"/>
              <a:ext cx="90360" cy="356400"/>
            </a:xfrm>
            <a:custGeom>
              <a:avLst/>
              <a:gdLst/>
              <a:ahLst/>
              <a:rect l="l" t="t" r="r" b="b"/>
              <a:pathLst>
                <a:path w="205" h="751">
                  <a:moveTo>
                    <a:pt x="72" y="33"/>
                  </a:moveTo>
                  <a:lnTo>
                    <a:pt x="94" y="219"/>
                  </a:lnTo>
                  <a:lnTo>
                    <a:pt x="121" y="382"/>
                  </a:lnTo>
                  <a:lnTo>
                    <a:pt x="157" y="542"/>
                  </a:lnTo>
                  <a:lnTo>
                    <a:pt x="205" y="722"/>
                  </a:lnTo>
                  <a:lnTo>
                    <a:pt x="190" y="751"/>
                  </a:lnTo>
                  <a:lnTo>
                    <a:pt x="161" y="736"/>
                  </a:lnTo>
                  <a:lnTo>
                    <a:pt x="133" y="640"/>
                  </a:lnTo>
                  <a:lnTo>
                    <a:pt x="107" y="554"/>
                  </a:lnTo>
                  <a:lnTo>
                    <a:pt x="63" y="393"/>
                  </a:lnTo>
                  <a:lnTo>
                    <a:pt x="0" y="40"/>
                  </a:lnTo>
                  <a:lnTo>
                    <a:pt x="7" y="12"/>
                  </a:lnTo>
                  <a:lnTo>
                    <a:pt x="31" y="0"/>
                  </a:lnTo>
                  <a:lnTo>
                    <a:pt x="72" y="33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78000" y="3167640"/>
              <a:ext cx="119160" cy="364680"/>
            </a:xfrm>
            <a:custGeom>
              <a:avLst/>
              <a:gdLst/>
              <a:ahLst/>
              <a:rect l="l" t="t" r="r" b="b"/>
              <a:pathLst>
                <a:path w="275" h="770">
                  <a:moveTo>
                    <a:pt x="39" y="18"/>
                  </a:moveTo>
                  <a:lnTo>
                    <a:pt x="42" y="67"/>
                  </a:lnTo>
                  <a:lnTo>
                    <a:pt x="108" y="330"/>
                  </a:lnTo>
                  <a:lnTo>
                    <a:pt x="147" y="435"/>
                  </a:lnTo>
                  <a:lnTo>
                    <a:pt x="185" y="527"/>
                  </a:lnTo>
                  <a:lnTo>
                    <a:pt x="226" y="616"/>
                  </a:lnTo>
                  <a:lnTo>
                    <a:pt x="274" y="718"/>
                  </a:lnTo>
                  <a:lnTo>
                    <a:pt x="275" y="749"/>
                  </a:lnTo>
                  <a:lnTo>
                    <a:pt x="254" y="770"/>
                  </a:lnTo>
                  <a:lnTo>
                    <a:pt x="202" y="750"/>
                  </a:lnTo>
                  <a:lnTo>
                    <a:pt x="135" y="547"/>
                  </a:lnTo>
                  <a:lnTo>
                    <a:pt x="111" y="449"/>
                  </a:lnTo>
                  <a:lnTo>
                    <a:pt x="78" y="338"/>
                  </a:lnTo>
                  <a:lnTo>
                    <a:pt x="12" y="71"/>
                  </a:lnTo>
                  <a:lnTo>
                    <a:pt x="0" y="25"/>
                  </a:lnTo>
                  <a:lnTo>
                    <a:pt x="3" y="7"/>
                  </a:lnTo>
                  <a:lnTo>
                    <a:pt x="19" y="0"/>
                  </a:lnTo>
                  <a:lnTo>
                    <a:pt x="39" y="18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88720" y="3558240"/>
              <a:ext cx="129960" cy="39960"/>
            </a:xfrm>
            <a:custGeom>
              <a:avLst/>
              <a:gdLst/>
              <a:ahLst/>
              <a:rect l="l" t="t" r="r" b="b"/>
              <a:pathLst>
                <a:path w="297" h="83">
                  <a:moveTo>
                    <a:pt x="42" y="0"/>
                  </a:moveTo>
                  <a:lnTo>
                    <a:pt x="164" y="24"/>
                  </a:lnTo>
                  <a:lnTo>
                    <a:pt x="283" y="53"/>
                  </a:lnTo>
                  <a:lnTo>
                    <a:pt x="297" y="71"/>
                  </a:lnTo>
                  <a:lnTo>
                    <a:pt x="279" y="83"/>
                  </a:lnTo>
                  <a:lnTo>
                    <a:pt x="38" y="77"/>
                  </a:lnTo>
                  <a:lnTo>
                    <a:pt x="9" y="64"/>
                  </a:lnTo>
                  <a:lnTo>
                    <a:pt x="0" y="35"/>
                  </a:lnTo>
                  <a:lnTo>
                    <a:pt x="12" y="1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22640" y="3507120"/>
              <a:ext cx="74520" cy="99360"/>
            </a:xfrm>
            <a:custGeom>
              <a:avLst/>
              <a:gdLst/>
              <a:ahLst/>
              <a:rect l="l" t="t" r="r" b="b"/>
              <a:pathLst>
                <a:path w="171" h="210">
                  <a:moveTo>
                    <a:pt x="0" y="188"/>
                  </a:moveTo>
                  <a:lnTo>
                    <a:pt x="58" y="98"/>
                  </a:lnTo>
                  <a:lnTo>
                    <a:pt x="87" y="56"/>
                  </a:lnTo>
                  <a:lnTo>
                    <a:pt x="123" y="12"/>
                  </a:lnTo>
                  <a:lnTo>
                    <a:pt x="147" y="0"/>
                  </a:lnTo>
                  <a:lnTo>
                    <a:pt x="168" y="9"/>
                  </a:lnTo>
                  <a:lnTo>
                    <a:pt x="171" y="53"/>
                  </a:lnTo>
                  <a:lnTo>
                    <a:pt x="132" y="95"/>
                  </a:lnTo>
                  <a:lnTo>
                    <a:pt x="96" y="130"/>
                  </a:lnTo>
                  <a:lnTo>
                    <a:pt x="26" y="207"/>
                  </a:lnTo>
                  <a:lnTo>
                    <a:pt x="3" y="210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01160" y="2697120"/>
              <a:ext cx="94320" cy="91080"/>
            </a:xfrm>
            <a:custGeom>
              <a:avLst/>
              <a:gdLst/>
              <a:ahLst/>
              <a:rect l="l" t="t" r="r" b="b"/>
              <a:pathLst>
                <a:path w="216" h="193">
                  <a:moveTo>
                    <a:pt x="0" y="0"/>
                  </a:moveTo>
                  <a:lnTo>
                    <a:pt x="117" y="0"/>
                  </a:lnTo>
                  <a:lnTo>
                    <a:pt x="135" y="47"/>
                  </a:lnTo>
                  <a:lnTo>
                    <a:pt x="163" y="91"/>
                  </a:lnTo>
                  <a:lnTo>
                    <a:pt x="216" y="139"/>
                  </a:lnTo>
                  <a:lnTo>
                    <a:pt x="127" y="193"/>
                  </a:lnTo>
                  <a:lnTo>
                    <a:pt x="93" y="136"/>
                  </a:lnTo>
                  <a:lnTo>
                    <a:pt x="54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8720" y="2454840"/>
              <a:ext cx="336960" cy="726840"/>
            </a:xfrm>
            <a:custGeom>
              <a:avLst/>
              <a:gdLst/>
              <a:ahLst/>
              <a:rect l="l" t="t" r="r" b="b"/>
              <a:pathLst>
                <a:path w="771" h="1531">
                  <a:moveTo>
                    <a:pt x="636" y="264"/>
                  </a:moveTo>
                  <a:lnTo>
                    <a:pt x="663" y="425"/>
                  </a:lnTo>
                  <a:lnTo>
                    <a:pt x="632" y="537"/>
                  </a:lnTo>
                  <a:lnTo>
                    <a:pt x="644" y="625"/>
                  </a:lnTo>
                  <a:lnTo>
                    <a:pt x="584" y="679"/>
                  </a:lnTo>
                  <a:lnTo>
                    <a:pt x="551" y="879"/>
                  </a:lnTo>
                  <a:lnTo>
                    <a:pt x="467" y="1061"/>
                  </a:lnTo>
                  <a:lnTo>
                    <a:pt x="376" y="1215"/>
                  </a:lnTo>
                  <a:lnTo>
                    <a:pt x="376" y="1267"/>
                  </a:lnTo>
                  <a:lnTo>
                    <a:pt x="356" y="1303"/>
                  </a:lnTo>
                  <a:lnTo>
                    <a:pt x="274" y="1343"/>
                  </a:lnTo>
                  <a:lnTo>
                    <a:pt x="256" y="1391"/>
                  </a:lnTo>
                  <a:lnTo>
                    <a:pt x="190" y="1443"/>
                  </a:lnTo>
                  <a:lnTo>
                    <a:pt x="113" y="1466"/>
                  </a:lnTo>
                  <a:lnTo>
                    <a:pt x="0" y="1531"/>
                  </a:lnTo>
                  <a:lnTo>
                    <a:pt x="167" y="1500"/>
                  </a:lnTo>
                  <a:lnTo>
                    <a:pt x="216" y="1514"/>
                  </a:lnTo>
                  <a:lnTo>
                    <a:pt x="267" y="1445"/>
                  </a:lnTo>
                  <a:lnTo>
                    <a:pt x="400" y="1458"/>
                  </a:lnTo>
                  <a:lnTo>
                    <a:pt x="452" y="1391"/>
                  </a:lnTo>
                  <a:lnTo>
                    <a:pt x="557" y="1315"/>
                  </a:lnTo>
                  <a:lnTo>
                    <a:pt x="530" y="1252"/>
                  </a:lnTo>
                  <a:lnTo>
                    <a:pt x="590" y="1193"/>
                  </a:lnTo>
                  <a:lnTo>
                    <a:pt x="596" y="1093"/>
                  </a:lnTo>
                  <a:lnTo>
                    <a:pt x="668" y="1016"/>
                  </a:lnTo>
                  <a:lnTo>
                    <a:pt x="647" y="915"/>
                  </a:lnTo>
                  <a:lnTo>
                    <a:pt x="723" y="840"/>
                  </a:lnTo>
                  <a:lnTo>
                    <a:pt x="742" y="704"/>
                  </a:lnTo>
                  <a:lnTo>
                    <a:pt x="771" y="636"/>
                  </a:lnTo>
                  <a:lnTo>
                    <a:pt x="750" y="551"/>
                  </a:lnTo>
                  <a:lnTo>
                    <a:pt x="727" y="455"/>
                  </a:lnTo>
                  <a:lnTo>
                    <a:pt x="753" y="337"/>
                  </a:lnTo>
                  <a:lnTo>
                    <a:pt x="707" y="224"/>
                  </a:lnTo>
                  <a:lnTo>
                    <a:pt x="674" y="157"/>
                  </a:lnTo>
                  <a:lnTo>
                    <a:pt x="632" y="52"/>
                  </a:lnTo>
                  <a:lnTo>
                    <a:pt x="542" y="0"/>
                  </a:lnTo>
                  <a:lnTo>
                    <a:pt x="548" y="86"/>
                  </a:lnTo>
                  <a:lnTo>
                    <a:pt x="623" y="185"/>
                  </a:lnTo>
                  <a:lnTo>
                    <a:pt x="620" y="230"/>
                  </a:lnTo>
                  <a:lnTo>
                    <a:pt x="636" y="264"/>
                  </a:lnTo>
                  <a:lnTo>
                    <a:pt x="636" y="264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7800" y="2203920"/>
              <a:ext cx="899640" cy="1026360"/>
            </a:xfrm>
            <a:custGeom>
              <a:avLst/>
              <a:gdLst/>
              <a:ahLst/>
              <a:rect l="l" t="t" r="r" b="b"/>
              <a:pathLst>
                <a:path w="2056" h="2158">
                  <a:moveTo>
                    <a:pt x="733" y="31"/>
                  </a:moveTo>
                  <a:lnTo>
                    <a:pt x="814" y="4"/>
                  </a:lnTo>
                  <a:lnTo>
                    <a:pt x="893" y="0"/>
                  </a:lnTo>
                  <a:lnTo>
                    <a:pt x="955" y="12"/>
                  </a:lnTo>
                  <a:lnTo>
                    <a:pt x="1083" y="4"/>
                  </a:lnTo>
                  <a:lnTo>
                    <a:pt x="1100" y="12"/>
                  </a:lnTo>
                  <a:lnTo>
                    <a:pt x="1158" y="31"/>
                  </a:lnTo>
                  <a:lnTo>
                    <a:pt x="1227" y="37"/>
                  </a:lnTo>
                  <a:lnTo>
                    <a:pt x="1278" y="46"/>
                  </a:lnTo>
                  <a:lnTo>
                    <a:pt x="1335" y="40"/>
                  </a:lnTo>
                  <a:lnTo>
                    <a:pt x="1367" y="55"/>
                  </a:lnTo>
                  <a:lnTo>
                    <a:pt x="1394" y="80"/>
                  </a:lnTo>
                  <a:lnTo>
                    <a:pt x="1478" y="92"/>
                  </a:lnTo>
                  <a:lnTo>
                    <a:pt x="1495" y="130"/>
                  </a:lnTo>
                  <a:lnTo>
                    <a:pt x="1523" y="149"/>
                  </a:lnTo>
                  <a:lnTo>
                    <a:pt x="1553" y="160"/>
                  </a:lnTo>
                  <a:lnTo>
                    <a:pt x="1611" y="191"/>
                  </a:lnTo>
                  <a:lnTo>
                    <a:pt x="1652" y="231"/>
                  </a:lnTo>
                  <a:lnTo>
                    <a:pt x="1691" y="263"/>
                  </a:lnTo>
                  <a:lnTo>
                    <a:pt x="1776" y="328"/>
                  </a:lnTo>
                  <a:lnTo>
                    <a:pt x="1809" y="379"/>
                  </a:lnTo>
                  <a:lnTo>
                    <a:pt x="1831" y="437"/>
                  </a:lnTo>
                  <a:lnTo>
                    <a:pt x="1849" y="467"/>
                  </a:lnTo>
                  <a:lnTo>
                    <a:pt x="1870" y="491"/>
                  </a:lnTo>
                  <a:lnTo>
                    <a:pt x="1915" y="540"/>
                  </a:lnTo>
                  <a:lnTo>
                    <a:pt x="1957" y="592"/>
                  </a:lnTo>
                  <a:lnTo>
                    <a:pt x="1978" y="658"/>
                  </a:lnTo>
                  <a:lnTo>
                    <a:pt x="2017" y="800"/>
                  </a:lnTo>
                  <a:lnTo>
                    <a:pt x="2045" y="928"/>
                  </a:lnTo>
                  <a:lnTo>
                    <a:pt x="2033" y="1015"/>
                  </a:lnTo>
                  <a:lnTo>
                    <a:pt x="2056" y="1160"/>
                  </a:lnTo>
                  <a:lnTo>
                    <a:pt x="2024" y="1303"/>
                  </a:lnTo>
                  <a:lnTo>
                    <a:pt x="2027" y="1378"/>
                  </a:lnTo>
                  <a:lnTo>
                    <a:pt x="1993" y="1436"/>
                  </a:lnTo>
                  <a:lnTo>
                    <a:pt x="1966" y="1496"/>
                  </a:lnTo>
                  <a:lnTo>
                    <a:pt x="1961" y="1569"/>
                  </a:lnTo>
                  <a:lnTo>
                    <a:pt x="1949" y="1591"/>
                  </a:lnTo>
                  <a:lnTo>
                    <a:pt x="1924" y="1609"/>
                  </a:lnTo>
                  <a:lnTo>
                    <a:pt x="1885" y="1646"/>
                  </a:lnTo>
                  <a:lnTo>
                    <a:pt x="1875" y="1787"/>
                  </a:lnTo>
                  <a:lnTo>
                    <a:pt x="1842" y="1805"/>
                  </a:lnTo>
                  <a:lnTo>
                    <a:pt x="1804" y="1820"/>
                  </a:lnTo>
                  <a:lnTo>
                    <a:pt x="1735" y="1903"/>
                  </a:lnTo>
                  <a:lnTo>
                    <a:pt x="1701" y="1941"/>
                  </a:lnTo>
                  <a:lnTo>
                    <a:pt x="1655" y="1972"/>
                  </a:lnTo>
                  <a:lnTo>
                    <a:pt x="1565" y="1996"/>
                  </a:lnTo>
                  <a:lnTo>
                    <a:pt x="1513" y="2024"/>
                  </a:lnTo>
                  <a:lnTo>
                    <a:pt x="1459" y="2033"/>
                  </a:lnTo>
                  <a:lnTo>
                    <a:pt x="1426" y="2061"/>
                  </a:lnTo>
                  <a:lnTo>
                    <a:pt x="1391" y="2081"/>
                  </a:lnTo>
                  <a:lnTo>
                    <a:pt x="1312" y="2087"/>
                  </a:lnTo>
                  <a:lnTo>
                    <a:pt x="1249" y="2118"/>
                  </a:lnTo>
                  <a:lnTo>
                    <a:pt x="1221" y="2138"/>
                  </a:lnTo>
                  <a:lnTo>
                    <a:pt x="1187" y="2145"/>
                  </a:lnTo>
                  <a:lnTo>
                    <a:pt x="1013" y="2158"/>
                  </a:lnTo>
                  <a:lnTo>
                    <a:pt x="920" y="2132"/>
                  </a:lnTo>
                  <a:lnTo>
                    <a:pt x="853" y="2144"/>
                  </a:lnTo>
                  <a:lnTo>
                    <a:pt x="786" y="2155"/>
                  </a:lnTo>
                  <a:lnTo>
                    <a:pt x="705" y="2117"/>
                  </a:lnTo>
                  <a:lnTo>
                    <a:pt x="670" y="2093"/>
                  </a:lnTo>
                  <a:lnTo>
                    <a:pt x="626" y="2072"/>
                  </a:lnTo>
                  <a:lnTo>
                    <a:pt x="516" y="2055"/>
                  </a:lnTo>
                  <a:lnTo>
                    <a:pt x="421" y="2009"/>
                  </a:lnTo>
                  <a:lnTo>
                    <a:pt x="331" y="1926"/>
                  </a:lnTo>
                  <a:lnTo>
                    <a:pt x="246" y="1837"/>
                  </a:lnTo>
                  <a:lnTo>
                    <a:pt x="207" y="1754"/>
                  </a:lnTo>
                  <a:lnTo>
                    <a:pt x="193" y="1712"/>
                  </a:lnTo>
                  <a:lnTo>
                    <a:pt x="165" y="1673"/>
                  </a:lnTo>
                  <a:lnTo>
                    <a:pt x="101" y="1605"/>
                  </a:lnTo>
                  <a:lnTo>
                    <a:pt x="66" y="1518"/>
                  </a:lnTo>
                  <a:lnTo>
                    <a:pt x="0" y="1296"/>
                  </a:lnTo>
                  <a:lnTo>
                    <a:pt x="5" y="1154"/>
                  </a:lnTo>
                  <a:lnTo>
                    <a:pt x="12" y="1012"/>
                  </a:lnTo>
                  <a:lnTo>
                    <a:pt x="5" y="819"/>
                  </a:lnTo>
                  <a:lnTo>
                    <a:pt x="29" y="681"/>
                  </a:lnTo>
                  <a:lnTo>
                    <a:pt x="60" y="561"/>
                  </a:lnTo>
                  <a:lnTo>
                    <a:pt x="83" y="504"/>
                  </a:lnTo>
                  <a:lnTo>
                    <a:pt x="110" y="448"/>
                  </a:lnTo>
                  <a:lnTo>
                    <a:pt x="144" y="389"/>
                  </a:lnTo>
                  <a:lnTo>
                    <a:pt x="184" y="328"/>
                  </a:lnTo>
                  <a:lnTo>
                    <a:pt x="235" y="266"/>
                  </a:lnTo>
                  <a:lnTo>
                    <a:pt x="286" y="222"/>
                  </a:lnTo>
                  <a:lnTo>
                    <a:pt x="343" y="186"/>
                  </a:lnTo>
                  <a:lnTo>
                    <a:pt x="412" y="146"/>
                  </a:lnTo>
                  <a:lnTo>
                    <a:pt x="449" y="121"/>
                  </a:lnTo>
                  <a:lnTo>
                    <a:pt x="485" y="98"/>
                  </a:lnTo>
                  <a:lnTo>
                    <a:pt x="524" y="79"/>
                  </a:lnTo>
                  <a:lnTo>
                    <a:pt x="567" y="69"/>
                  </a:lnTo>
                  <a:lnTo>
                    <a:pt x="581" y="79"/>
                  </a:lnTo>
                  <a:lnTo>
                    <a:pt x="570" y="94"/>
                  </a:lnTo>
                  <a:lnTo>
                    <a:pt x="507" y="127"/>
                  </a:lnTo>
                  <a:lnTo>
                    <a:pt x="451" y="176"/>
                  </a:lnTo>
                  <a:lnTo>
                    <a:pt x="225" y="355"/>
                  </a:lnTo>
                  <a:lnTo>
                    <a:pt x="186" y="413"/>
                  </a:lnTo>
                  <a:lnTo>
                    <a:pt x="153" y="469"/>
                  </a:lnTo>
                  <a:lnTo>
                    <a:pt x="105" y="576"/>
                  </a:lnTo>
                  <a:lnTo>
                    <a:pt x="50" y="822"/>
                  </a:lnTo>
                  <a:lnTo>
                    <a:pt x="56" y="1006"/>
                  </a:lnTo>
                  <a:lnTo>
                    <a:pt x="51" y="1291"/>
                  </a:lnTo>
                  <a:lnTo>
                    <a:pt x="78" y="1400"/>
                  </a:lnTo>
                  <a:lnTo>
                    <a:pt x="116" y="1505"/>
                  </a:lnTo>
                  <a:lnTo>
                    <a:pt x="145" y="1578"/>
                  </a:lnTo>
                  <a:lnTo>
                    <a:pt x="166" y="1609"/>
                  </a:lnTo>
                  <a:lnTo>
                    <a:pt x="198" y="1637"/>
                  </a:lnTo>
                  <a:lnTo>
                    <a:pt x="244" y="1718"/>
                  </a:lnTo>
                  <a:lnTo>
                    <a:pt x="261" y="1760"/>
                  </a:lnTo>
                  <a:lnTo>
                    <a:pt x="288" y="1802"/>
                  </a:lnTo>
                  <a:lnTo>
                    <a:pt x="334" y="1848"/>
                  </a:lnTo>
                  <a:lnTo>
                    <a:pt x="377" y="1885"/>
                  </a:lnTo>
                  <a:lnTo>
                    <a:pt x="472" y="1964"/>
                  </a:lnTo>
                  <a:lnTo>
                    <a:pt x="509" y="1991"/>
                  </a:lnTo>
                  <a:lnTo>
                    <a:pt x="548" y="2008"/>
                  </a:lnTo>
                  <a:lnTo>
                    <a:pt x="635" y="2026"/>
                  </a:lnTo>
                  <a:lnTo>
                    <a:pt x="726" y="2057"/>
                  </a:lnTo>
                  <a:lnTo>
                    <a:pt x="817" y="2084"/>
                  </a:lnTo>
                  <a:lnTo>
                    <a:pt x="884" y="2072"/>
                  </a:lnTo>
                  <a:lnTo>
                    <a:pt x="953" y="2060"/>
                  </a:lnTo>
                  <a:lnTo>
                    <a:pt x="1007" y="2081"/>
                  </a:lnTo>
                  <a:lnTo>
                    <a:pt x="1189" y="2058"/>
                  </a:lnTo>
                  <a:lnTo>
                    <a:pt x="1249" y="2039"/>
                  </a:lnTo>
                  <a:lnTo>
                    <a:pt x="1309" y="2017"/>
                  </a:lnTo>
                  <a:lnTo>
                    <a:pt x="1384" y="2024"/>
                  </a:lnTo>
                  <a:lnTo>
                    <a:pt x="1433" y="1982"/>
                  </a:lnTo>
                  <a:lnTo>
                    <a:pt x="1496" y="1969"/>
                  </a:lnTo>
                  <a:lnTo>
                    <a:pt x="1548" y="1914"/>
                  </a:lnTo>
                  <a:lnTo>
                    <a:pt x="1608" y="1902"/>
                  </a:lnTo>
                  <a:lnTo>
                    <a:pt x="1762" y="1779"/>
                  </a:lnTo>
                  <a:lnTo>
                    <a:pt x="1813" y="1740"/>
                  </a:lnTo>
                  <a:lnTo>
                    <a:pt x="1827" y="1691"/>
                  </a:lnTo>
                  <a:lnTo>
                    <a:pt x="1828" y="1636"/>
                  </a:lnTo>
                  <a:lnTo>
                    <a:pt x="1854" y="1600"/>
                  </a:lnTo>
                  <a:lnTo>
                    <a:pt x="1878" y="1564"/>
                  </a:lnTo>
                  <a:lnTo>
                    <a:pt x="1890" y="1478"/>
                  </a:lnTo>
                  <a:lnTo>
                    <a:pt x="1904" y="1442"/>
                  </a:lnTo>
                  <a:lnTo>
                    <a:pt x="1933" y="1409"/>
                  </a:lnTo>
                  <a:lnTo>
                    <a:pt x="1957" y="1355"/>
                  </a:lnTo>
                  <a:lnTo>
                    <a:pt x="1955" y="1287"/>
                  </a:lnTo>
                  <a:lnTo>
                    <a:pt x="1967" y="1209"/>
                  </a:lnTo>
                  <a:lnTo>
                    <a:pt x="1991" y="1133"/>
                  </a:lnTo>
                  <a:lnTo>
                    <a:pt x="1978" y="1078"/>
                  </a:lnTo>
                  <a:lnTo>
                    <a:pt x="1960" y="1022"/>
                  </a:lnTo>
                  <a:lnTo>
                    <a:pt x="1976" y="973"/>
                  </a:lnTo>
                  <a:lnTo>
                    <a:pt x="1994" y="922"/>
                  </a:lnTo>
                  <a:lnTo>
                    <a:pt x="1985" y="864"/>
                  </a:lnTo>
                  <a:lnTo>
                    <a:pt x="1967" y="804"/>
                  </a:lnTo>
                  <a:lnTo>
                    <a:pt x="1934" y="669"/>
                  </a:lnTo>
                  <a:lnTo>
                    <a:pt x="1916" y="615"/>
                  </a:lnTo>
                  <a:lnTo>
                    <a:pt x="1881" y="572"/>
                  </a:lnTo>
                  <a:lnTo>
                    <a:pt x="1834" y="515"/>
                  </a:lnTo>
                  <a:lnTo>
                    <a:pt x="1792" y="454"/>
                  </a:lnTo>
                  <a:lnTo>
                    <a:pt x="1750" y="355"/>
                  </a:lnTo>
                  <a:lnTo>
                    <a:pt x="1581" y="215"/>
                  </a:lnTo>
                  <a:lnTo>
                    <a:pt x="1554" y="194"/>
                  </a:lnTo>
                  <a:lnTo>
                    <a:pt x="1523" y="185"/>
                  </a:lnTo>
                  <a:lnTo>
                    <a:pt x="1465" y="157"/>
                  </a:lnTo>
                  <a:lnTo>
                    <a:pt x="1448" y="121"/>
                  </a:lnTo>
                  <a:lnTo>
                    <a:pt x="1411" y="116"/>
                  </a:lnTo>
                  <a:lnTo>
                    <a:pt x="1372" y="115"/>
                  </a:lnTo>
                  <a:lnTo>
                    <a:pt x="1333" y="82"/>
                  </a:lnTo>
                  <a:lnTo>
                    <a:pt x="1267" y="85"/>
                  </a:lnTo>
                  <a:lnTo>
                    <a:pt x="1207" y="71"/>
                  </a:lnTo>
                  <a:lnTo>
                    <a:pt x="1073" y="48"/>
                  </a:lnTo>
                  <a:lnTo>
                    <a:pt x="961" y="54"/>
                  </a:lnTo>
                  <a:lnTo>
                    <a:pt x="886" y="33"/>
                  </a:lnTo>
                  <a:lnTo>
                    <a:pt x="813" y="34"/>
                  </a:lnTo>
                  <a:lnTo>
                    <a:pt x="741" y="55"/>
                  </a:lnTo>
                  <a:lnTo>
                    <a:pt x="724" y="46"/>
                  </a:lnTo>
                  <a:lnTo>
                    <a:pt x="733" y="31"/>
                  </a:lnTo>
                  <a:lnTo>
                    <a:pt x="7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61600" y="2664360"/>
              <a:ext cx="64080" cy="258120"/>
            </a:xfrm>
            <a:custGeom>
              <a:avLst/>
              <a:gdLst/>
              <a:ahLst/>
              <a:rect l="l" t="t" r="r" b="b"/>
              <a:pathLst>
                <a:path w="147" h="542">
                  <a:moveTo>
                    <a:pt x="56" y="349"/>
                  </a:moveTo>
                  <a:lnTo>
                    <a:pt x="69" y="482"/>
                  </a:lnTo>
                  <a:lnTo>
                    <a:pt x="53" y="510"/>
                  </a:lnTo>
                  <a:lnTo>
                    <a:pt x="30" y="536"/>
                  </a:lnTo>
                  <a:lnTo>
                    <a:pt x="6" y="542"/>
                  </a:lnTo>
                  <a:lnTo>
                    <a:pt x="0" y="518"/>
                  </a:lnTo>
                  <a:lnTo>
                    <a:pt x="17" y="434"/>
                  </a:lnTo>
                  <a:lnTo>
                    <a:pt x="9" y="346"/>
                  </a:lnTo>
                  <a:lnTo>
                    <a:pt x="23" y="313"/>
                  </a:lnTo>
                  <a:lnTo>
                    <a:pt x="45" y="264"/>
                  </a:lnTo>
                  <a:lnTo>
                    <a:pt x="69" y="216"/>
                  </a:lnTo>
                  <a:lnTo>
                    <a:pt x="86" y="189"/>
                  </a:lnTo>
                  <a:lnTo>
                    <a:pt x="50" y="107"/>
                  </a:lnTo>
                  <a:lnTo>
                    <a:pt x="62" y="13"/>
                  </a:lnTo>
                  <a:lnTo>
                    <a:pt x="72" y="0"/>
                  </a:lnTo>
                  <a:lnTo>
                    <a:pt x="86" y="10"/>
                  </a:lnTo>
                  <a:lnTo>
                    <a:pt x="97" y="104"/>
                  </a:lnTo>
                  <a:lnTo>
                    <a:pt x="121" y="149"/>
                  </a:lnTo>
                  <a:lnTo>
                    <a:pt x="147" y="194"/>
                  </a:lnTo>
                  <a:lnTo>
                    <a:pt x="135" y="222"/>
                  </a:lnTo>
                  <a:lnTo>
                    <a:pt x="106" y="268"/>
                  </a:lnTo>
                  <a:lnTo>
                    <a:pt x="89" y="318"/>
                  </a:lnTo>
                  <a:lnTo>
                    <a:pt x="56" y="349"/>
                  </a:lnTo>
                  <a:lnTo>
                    <a:pt x="56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1720" y="2297880"/>
              <a:ext cx="237240" cy="302040"/>
            </a:xfrm>
            <a:custGeom>
              <a:avLst/>
              <a:gdLst/>
              <a:ahLst/>
              <a:rect l="l" t="t" r="r" b="b"/>
              <a:pathLst>
                <a:path w="545" h="635">
                  <a:moveTo>
                    <a:pt x="398" y="329"/>
                  </a:moveTo>
                  <a:lnTo>
                    <a:pt x="450" y="348"/>
                  </a:lnTo>
                  <a:lnTo>
                    <a:pt x="462" y="406"/>
                  </a:lnTo>
                  <a:lnTo>
                    <a:pt x="515" y="462"/>
                  </a:lnTo>
                  <a:lnTo>
                    <a:pt x="522" y="541"/>
                  </a:lnTo>
                  <a:lnTo>
                    <a:pt x="545" y="608"/>
                  </a:lnTo>
                  <a:lnTo>
                    <a:pt x="540" y="626"/>
                  </a:lnTo>
                  <a:lnTo>
                    <a:pt x="524" y="635"/>
                  </a:lnTo>
                  <a:lnTo>
                    <a:pt x="497" y="614"/>
                  </a:lnTo>
                  <a:lnTo>
                    <a:pt x="476" y="559"/>
                  </a:lnTo>
                  <a:lnTo>
                    <a:pt x="467" y="495"/>
                  </a:lnTo>
                  <a:lnTo>
                    <a:pt x="401" y="396"/>
                  </a:lnTo>
                  <a:lnTo>
                    <a:pt x="416" y="387"/>
                  </a:lnTo>
                  <a:lnTo>
                    <a:pt x="389" y="360"/>
                  </a:lnTo>
                  <a:lnTo>
                    <a:pt x="359" y="335"/>
                  </a:lnTo>
                  <a:lnTo>
                    <a:pt x="344" y="266"/>
                  </a:lnTo>
                  <a:lnTo>
                    <a:pt x="305" y="250"/>
                  </a:lnTo>
                  <a:lnTo>
                    <a:pt x="277" y="202"/>
                  </a:lnTo>
                  <a:lnTo>
                    <a:pt x="190" y="127"/>
                  </a:lnTo>
                  <a:lnTo>
                    <a:pt x="198" y="135"/>
                  </a:lnTo>
                  <a:lnTo>
                    <a:pt x="190" y="126"/>
                  </a:lnTo>
                  <a:lnTo>
                    <a:pt x="139" y="100"/>
                  </a:lnTo>
                  <a:lnTo>
                    <a:pt x="126" y="53"/>
                  </a:lnTo>
                  <a:lnTo>
                    <a:pt x="102" y="36"/>
                  </a:lnTo>
                  <a:lnTo>
                    <a:pt x="78" y="39"/>
                  </a:lnTo>
                  <a:lnTo>
                    <a:pt x="21" y="50"/>
                  </a:lnTo>
                  <a:lnTo>
                    <a:pt x="0" y="21"/>
                  </a:lnTo>
                  <a:lnTo>
                    <a:pt x="27" y="0"/>
                  </a:lnTo>
                  <a:lnTo>
                    <a:pt x="171" y="51"/>
                  </a:lnTo>
                  <a:lnTo>
                    <a:pt x="171" y="87"/>
                  </a:lnTo>
                  <a:lnTo>
                    <a:pt x="201" y="100"/>
                  </a:lnTo>
                  <a:lnTo>
                    <a:pt x="233" y="102"/>
                  </a:lnTo>
                  <a:lnTo>
                    <a:pt x="301" y="156"/>
                  </a:lnTo>
                  <a:lnTo>
                    <a:pt x="359" y="232"/>
                  </a:lnTo>
                  <a:lnTo>
                    <a:pt x="398" y="329"/>
                  </a:lnTo>
                  <a:lnTo>
                    <a:pt x="398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1200" y="2766960"/>
              <a:ext cx="176760" cy="138240"/>
            </a:xfrm>
            <a:custGeom>
              <a:avLst/>
              <a:gdLst/>
              <a:ahLst/>
              <a:rect l="l" t="t" r="r" b="b"/>
              <a:pathLst>
                <a:path w="404" h="290">
                  <a:moveTo>
                    <a:pt x="0" y="27"/>
                  </a:moveTo>
                  <a:lnTo>
                    <a:pt x="65" y="164"/>
                  </a:lnTo>
                  <a:lnTo>
                    <a:pt x="60" y="232"/>
                  </a:lnTo>
                  <a:lnTo>
                    <a:pt x="44" y="290"/>
                  </a:lnTo>
                  <a:lnTo>
                    <a:pt x="99" y="278"/>
                  </a:lnTo>
                  <a:lnTo>
                    <a:pt x="117" y="166"/>
                  </a:lnTo>
                  <a:lnTo>
                    <a:pt x="186" y="251"/>
                  </a:lnTo>
                  <a:lnTo>
                    <a:pt x="285" y="218"/>
                  </a:lnTo>
                  <a:lnTo>
                    <a:pt x="183" y="109"/>
                  </a:lnTo>
                  <a:lnTo>
                    <a:pt x="304" y="126"/>
                  </a:lnTo>
                  <a:lnTo>
                    <a:pt x="392" y="103"/>
                  </a:lnTo>
                  <a:lnTo>
                    <a:pt x="404" y="51"/>
                  </a:lnTo>
                  <a:lnTo>
                    <a:pt x="277" y="84"/>
                  </a:lnTo>
                  <a:lnTo>
                    <a:pt x="116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0d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72640" y="2513160"/>
              <a:ext cx="390600" cy="411840"/>
            </a:xfrm>
            <a:custGeom>
              <a:avLst/>
              <a:gdLst/>
              <a:ahLst/>
              <a:rect l="l" t="t" r="r" b="b"/>
              <a:pathLst>
                <a:path w="893" h="866">
                  <a:moveTo>
                    <a:pt x="30" y="467"/>
                  </a:moveTo>
                  <a:lnTo>
                    <a:pt x="52" y="565"/>
                  </a:lnTo>
                  <a:lnTo>
                    <a:pt x="97" y="640"/>
                  </a:lnTo>
                  <a:lnTo>
                    <a:pt x="157" y="700"/>
                  </a:lnTo>
                  <a:lnTo>
                    <a:pt x="193" y="725"/>
                  </a:lnTo>
                  <a:lnTo>
                    <a:pt x="230" y="752"/>
                  </a:lnTo>
                  <a:lnTo>
                    <a:pt x="299" y="782"/>
                  </a:lnTo>
                  <a:lnTo>
                    <a:pt x="374" y="794"/>
                  </a:lnTo>
                  <a:lnTo>
                    <a:pt x="534" y="770"/>
                  </a:lnTo>
                  <a:lnTo>
                    <a:pt x="610" y="740"/>
                  </a:lnTo>
                  <a:lnTo>
                    <a:pt x="679" y="700"/>
                  </a:lnTo>
                  <a:lnTo>
                    <a:pt x="779" y="604"/>
                  </a:lnTo>
                  <a:lnTo>
                    <a:pt x="820" y="515"/>
                  </a:lnTo>
                  <a:lnTo>
                    <a:pt x="832" y="424"/>
                  </a:lnTo>
                  <a:lnTo>
                    <a:pt x="818" y="333"/>
                  </a:lnTo>
                  <a:lnTo>
                    <a:pt x="781" y="246"/>
                  </a:lnTo>
                  <a:lnTo>
                    <a:pt x="755" y="207"/>
                  </a:lnTo>
                  <a:lnTo>
                    <a:pt x="725" y="170"/>
                  </a:lnTo>
                  <a:lnTo>
                    <a:pt x="690" y="137"/>
                  </a:lnTo>
                  <a:lnTo>
                    <a:pt x="651" y="109"/>
                  </a:lnTo>
                  <a:lnTo>
                    <a:pt x="609" y="86"/>
                  </a:lnTo>
                  <a:lnTo>
                    <a:pt x="564" y="68"/>
                  </a:lnTo>
                  <a:lnTo>
                    <a:pt x="464" y="50"/>
                  </a:lnTo>
                  <a:lnTo>
                    <a:pt x="320" y="59"/>
                  </a:lnTo>
                  <a:lnTo>
                    <a:pt x="224" y="107"/>
                  </a:lnTo>
                  <a:lnTo>
                    <a:pt x="197" y="110"/>
                  </a:lnTo>
                  <a:lnTo>
                    <a:pt x="196" y="98"/>
                  </a:lnTo>
                  <a:lnTo>
                    <a:pt x="218" y="70"/>
                  </a:lnTo>
                  <a:lnTo>
                    <a:pt x="290" y="39"/>
                  </a:lnTo>
                  <a:lnTo>
                    <a:pt x="355" y="16"/>
                  </a:lnTo>
                  <a:lnTo>
                    <a:pt x="464" y="0"/>
                  </a:lnTo>
                  <a:lnTo>
                    <a:pt x="579" y="19"/>
                  </a:lnTo>
                  <a:lnTo>
                    <a:pt x="681" y="67"/>
                  </a:lnTo>
                  <a:lnTo>
                    <a:pt x="767" y="139"/>
                  </a:lnTo>
                  <a:lnTo>
                    <a:pt x="833" y="228"/>
                  </a:lnTo>
                  <a:lnTo>
                    <a:pt x="877" y="328"/>
                  </a:lnTo>
                  <a:lnTo>
                    <a:pt x="893" y="434"/>
                  </a:lnTo>
                  <a:lnTo>
                    <a:pt x="881" y="542"/>
                  </a:lnTo>
                  <a:lnTo>
                    <a:pt x="862" y="594"/>
                  </a:lnTo>
                  <a:lnTo>
                    <a:pt x="833" y="643"/>
                  </a:lnTo>
                  <a:lnTo>
                    <a:pt x="785" y="703"/>
                  </a:lnTo>
                  <a:lnTo>
                    <a:pt x="721" y="758"/>
                  </a:lnTo>
                  <a:lnTo>
                    <a:pt x="687" y="782"/>
                  </a:lnTo>
                  <a:lnTo>
                    <a:pt x="648" y="803"/>
                  </a:lnTo>
                  <a:lnTo>
                    <a:pt x="567" y="839"/>
                  </a:lnTo>
                  <a:lnTo>
                    <a:pt x="482" y="860"/>
                  </a:lnTo>
                  <a:lnTo>
                    <a:pt x="395" y="866"/>
                  </a:lnTo>
                  <a:lnTo>
                    <a:pt x="227" y="819"/>
                  </a:lnTo>
                  <a:lnTo>
                    <a:pt x="190" y="794"/>
                  </a:lnTo>
                  <a:lnTo>
                    <a:pt x="153" y="763"/>
                  </a:lnTo>
                  <a:lnTo>
                    <a:pt x="81" y="683"/>
                  </a:lnTo>
                  <a:lnTo>
                    <a:pt x="25" y="583"/>
                  </a:lnTo>
                  <a:lnTo>
                    <a:pt x="0" y="470"/>
                  </a:lnTo>
                  <a:lnTo>
                    <a:pt x="30" y="467"/>
                  </a:lnTo>
                  <a:lnTo>
                    <a:pt x="3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7960" y="2613240"/>
              <a:ext cx="169200" cy="190800"/>
            </a:xfrm>
            <a:custGeom>
              <a:avLst/>
              <a:gdLst/>
              <a:ahLst/>
              <a:rect l="l" t="t" r="r" b="b"/>
              <a:pathLst>
                <a:path w="388" h="402">
                  <a:moveTo>
                    <a:pt x="32" y="251"/>
                  </a:moveTo>
                  <a:lnTo>
                    <a:pt x="120" y="342"/>
                  </a:lnTo>
                  <a:lnTo>
                    <a:pt x="198" y="350"/>
                  </a:lnTo>
                  <a:lnTo>
                    <a:pt x="270" y="317"/>
                  </a:lnTo>
                  <a:lnTo>
                    <a:pt x="321" y="229"/>
                  </a:lnTo>
                  <a:lnTo>
                    <a:pt x="321" y="178"/>
                  </a:lnTo>
                  <a:lnTo>
                    <a:pt x="303" y="129"/>
                  </a:lnTo>
                  <a:lnTo>
                    <a:pt x="271" y="88"/>
                  </a:lnTo>
                  <a:lnTo>
                    <a:pt x="228" y="61"/>
                  </a:lnTo>
                  <a:lnTo>
                    <a:pt x="107" y="67"/>
                  </a:lnTo>
                  <a:lnTo>
                    <a:pt x="98" y="29"/>
                  </a:lnTo>
                  <a:lnTo>
                    <a:pt x="138" y="6"/>
                  </a:lnTo>
                  <a:lnTo>
                    <a:pt x="174" y="0"/>
                  </a:lnTo>
                  <a:lnTo>
                    <a:pt x="249" y="11"/>
                  </a:lnTo>
                  <a:lnTo>
                    <a:pt x="340" y="52"/>
                  </a:lnTo>
                  <a:lnTo>
                    <a:pt x="388" y="146"/>
                  </a:lnTo>
                  <a:lnTo>
                    <a:pt x="380" y="260"/>
                  </a:lnTo>
                  <a:lnTo>
                    <a:pt x="352" y="315"/>
                  </a:lnTo>
                  <a:lnTo>
                    <a:pt x="304" y="361"/>
                  </a:lnTo>
                  <a:lnTo>
                    <a:pt x="255" y="388"/>
                  </a:lnTo>
                  <a:lnTo>
                    <a:pt x="201" y="402"/>
                  </a:lnTo>
                  <a:lnTo>
                    <a:pt x="93" y="382"/>
                  </a:lnTo>
                  <a:lnTo>
                    <a:pt x="21" y="329"/>
                  </a:lnTo>
                  <a:lnTo>
                    <a:pt x="0" y="261"/>
                  </a:lnTo>
                  <a:lnTo>
                    <a:pt x="12" y="245"/>
                  </a:lnTo>
                  <a:lnTo>
                    <a:pt x="32" y="251"/>
                  </a:lnTo>
                  <a:lnTo>
                    <a:pt x="3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13600" y="2289600"/>
              <a:ext cx="643680" cy="801000"/>
            </a:xfrm>
            <a:custGeom>
              <a:avLst/>
              <a:gdLst/>
              <a:ahLst/>
              <a:rect l="l" t="t" r="r" b="b"/>
              <a:pathLst>
                <a:path w="1475" h="1684">
                  <a:moveTo>
                    <a:pt x="0" y="245"/>
                  </a:moveTo>
                  <a:lnTo>
                    <a:pt x="43" y="199"/>
                  </a:lnTo>
                  <a:lnTo>
                    <a:pt x="93" y="156"/>
                  </a:lnTo>
                  <a:lnTo>
                    <a:pt x="148" y="117"/>
                  </a:lnTo>
                  <a:lnTo>
                    <a:pt x="211" y="81"/>
                  </a:lnTo>
                  <a:lnTo>
                    <a:pt x="259" y="60"/>
                  </a:lnTo>
                  <a:lnTo>
                    <a:pt x="308" y="41"/>
                  </a:lnTo>
                  <a:lnTo>
                    <a:pt x="413" y="14"/>
                  </a:lnTo>
                  <a:lnTo>
                    <a:pt x="633" y="0"/>
                  </a:lnTo>
                  <a:lnTo>
                    <a:pt x="878" y="47"/>
                  </a:lnTo>
                  <a:lnTo>
                    <a:pt x="995" y="96"/>
                  </a:lnTo>
                  <a:lnTo>
                    <a:pt x="1051" y="126"/>
                  </a:lnTo>
                  <a:lnTo>
                    <a:pt x="1105" y="159"/>
                  </a:lnTo>
                  <a:lnTo>
                    <a:pt x="1179" y="215"/>
                  </a:lnTo>
                  <a:lnTo>
                    <a:pt x="1246" y="280"/>
                  </a:lnTo>
                  <a:lnTo>
                    <a:pt x="1307" y="353"/>
                  </a:lnTo>
                  <a:lnTo>
                    <a:pt x="1360" y="433"/>
                  </a:lnTo>
                  <a:lnTo>
                    <a:pt x="1439" y="624"/>
                  </a:lnTo>
                  <a:lnTo>
                    <a:pt x="1475" y="836"/>
                  </a:lnTo>
                  <a:lnTo>
                    <a:pt x="1470" y="1025"/>
                  </a:lnTo>
                  <a:lnTo>
                    <a:pt x="1457" y="1119"/>
                  </a:lnTo>
                  <a:lnTo>
                    <a:pt x="1434" y="1210"/>
                  </a:lnTo>
                  <a:lnTo>
                    <a:pt x="1398" y="1310"/>
                  </a:lnTo>
                  <a:lnTo>
                    <a:pt x="1378" y="1356"/>
                  </a:lnTo>
                  <a:lnTo>
                    <a:pt x="1354" y="1402"/>
                  </a:lnTo>
                  <a:lnTo>
                    <a:pt x="1327" y="1446"/>
                  </a:lnTo>
                  <a:lnTo>
                    <a:pt x="1298" y="1486"/>
                  </a:lnTo>
                  <a:lnTo>
                    <a:pt x="1268" y="1525"/>
                  </a:lnTo>
                  <a:lnTo>
                    <a:pt x="1235" y="1562"/>
                  </a:lnTo>
                  <a:lnTo>
                    <a:pt x="1200" y="1596"/>
                  </a:lnTo>
                  <a:lnTo>
                    <a:pt x="1161" y="1629"/>
                  </a:lnTo>
                  <a:lnTo>
                    <a:pt x="1120" y="1659"/>
                  </a:lnTo>
                  <a:lnTo>
                    <a:pt x="1077" y="1684"/>
                  </a:lnTo>
                  <a:lnTo>
                    <a:pt x="1065" y="1665"/>
                  </a:lnTo>
                  <a:lnTo>
                    <a:pt x="1134" y="1611"/>
                  </a:lnTo>
                  <a:lnTo>
                    <a:pt x="1194" y="1541"/>
                  </a:lnTo>
                  <a:lnTo>
                    <a:pt x="1246" y="1457"/>
                  </a:lnTo>
                  <a:lnTo>
                    <a:pt x="1291" y="1368"/>
                  </a:lnTo>
                  <a:lnTo>
                    <a:pt x="1333" y="1257"/>
                  </a:lnTo>
                  <a:lnTo>
                    <a:pt x="1366" y="1156"/>
                  </a:lnTo>
                  <a:lnTo>
                    <a:pt x="1406" y="869"/>
                  </a:lnTo>
                  <a:lnTo>
                    <a:pt x="1400" y="765"/>
                  </a:lnTo>
                  <a:lnTo>
                    <a:pt x="1381" y="665"/>
                  </a:lnTo>
                  <a:lnTo>
                    <a:pt x="1352" y="571"/>
                  </a:lnTo>
                  <a:lnTo>
                    <a:pt x="1313" y="483"/>
                  </a:lnTo>
                  <a:lnTo>
                    <a:pt x="1285" y="435"/>
                  </a:lnTo>
                  <a:lnTo>
                    <a:pt x="1255" y="390"/>
                  </a:lnTo>
                  <a:lnTo>
                    <a:pt x="1222" y="347"/>
                  </a:lnTo>
                  <a:lnTo>
                    <a:pt x="1188" y="305"/>
                  </a:lnTo>
                  <a:lnTo>
                    <a:pt x="1150" y="268"/>
                  </a:lnTo>
                  <a:lnTo>
                    <a:pt x="1110" y="232"/>
                  </a:lnTo>
                  <a:lnTo>
                    <a:pt x="1068" y="199"/>
                  </a:lnTo>
                  <a:lnTo>
                    <a:pt x="1025" y="169"/>
                  </a:lnTo>
                  <a:lnTo>
                    <a:pt x="980" y="141"/>
                  </a:lnTo>
                  <a:lnTo>
                    <a:pt x="932" y="117"/>
                  </a:lnTo>
                  <a:lnTo>
                    <a:pt x="884" y="95"/>
                  </a:lnTo>
                  <a:lnTo>
                    <a:pt x="836" y="77"/>
                  </a:lnTo>
                  <a:lnTo>
                    <a:pt x="736" y="48"/>
                  </a:lnTo>
                  <a:lnTo>
                    <a:pt x="634" y="33"/>
                  </a:lnTo>
                  <a:lnTo>
                    <a:pt x="422" y="47"/>
                  </a:lnTo>
                  <a:lnTo>
                    <a:pt x="221" y="121"/>
                  </a:lnTo>
                  <a:lnTo>
                    <a:pt x="164" y="157"/>
                  </a:lnTo>
                  <a:lnTo>
                    <a:pt x="112" y="196"/>
                  </a:lnTo>
                  <a:lnTo>
                    <a:pt x="64" y="241"/>
                  </a:lnTo>
                  <a:lnTo>
                    <a:pt x="18" y="292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71840" y="2373480"/>
              <a:ext cx="593640" cy="672480"/>
            </a:xfrm>
            <a:custGeom>
              <a:avLst/>
              <a:gdLst/>
              <a:ahLst/>
              <a:rect l="l" t="t" r="r" b="b"/>
              <a:pathLst>
                <a:path w="1359" h="1415">
                  <a:moveTo>
                    <a:pt x="40" y="550"/>
                  </a:moveTo>
                  <a:lnTo>
                    <a:pt x="30" y="697"/>
                  </a:lnTo>
                  <a:lnTo>
                    <a:pt x="51" y="836"/>
                  </a:lnTo>
                  <a:lnTo>
                    <a:pt x="71" y="903"/>
                  </a:lnTo>
                  <a:lnTo>
                    <a:pt x="97" y="968"/>
                  </a:lnTo>
                  <a:lnTo>
                    <a:pt x="128" y="1033"/>
                  </a:lnTo>
                  <a:lnTo>
                    <a:pt x="166" y="1095"/>
                  </a:lnTo>
                  <a:lnTo>
                    <a:pt x="206" y="1155"/>
                  </a:lnTo>
                  <a:lnTo>
                    <a:pt x="251" y="1206"/>
                  </a:lnTo>
                  <a:lnTo>
                    <a:pt x="300" y="1249"/>
                  </a:lnTo>
                  <a:lnTo>
                    <a:pt x="353" y="1286"/>
                  </a:lnTo>
                  <a:lnTo>
                    <a:pt x="410" y="1316"/>
                  </a:lnTo>
                  <a:lnTo>
                    <a:pt x="468" y="1339"/>
                  </a:lnTo>
                  <a:lnTo>
                    <a:pt x="589" y="1366"/>
                  </a:lnTo>
                  <a:lnTo>
                    <a:pt x="712" y="1369"/>
                  </a:lnTo>
                  <a:lnTo>
                    <a:pt x="831" y="1346"/>
                  </a:lnTo>
                  <a:lnTo>
                    <a:pt x="947" y="1304"/>
                  </a:lnTo>
                  <a:lnTo>
                    <a:pt x="1000" y="1274"/>
                  </a:lnTo>
                  <a:lnTo>
                    <a:pt x="1051" y="1240"/>
                  </a:lnTo>
                  <a:lnTo>
                    <a:pt x="1138" y="1163"/>
                  </a:lnTo>
                  <a:lnTo>
                    <a:pt x="1175" y="1118"/>
                  </a:lnTo>
                  <a:lnTo>
                    <a:pt x="1208" y="1068"/>
                  </a:lnTo>
                  <a:lnTo>
                    <a:pt x="1288" y="834"/>
                  </a:lnTo>
                  <a:lnTo>
                    <a:pt x="1291" y="710"/>
                  </a:lnTo>
                  <a:lnTo>
                    <a:pt x="1274" y="594"/>
                  </a:lnTo>
                  <a:lnTo>
                    <a:pt x="1240" y="485"/>
                  </a:lnTo>
                  <a:lnTo>
                    <a:pt x="1216" y="434"/>
                  </a:lnTo>
                  <a:lnTo>
                    <a:pt x="1189" y="386"/>
                  </a:lnTo>
                  <a:lnTo>
                    <a:pt x="1156" y="338"/>
                  </a:lnTo>
                  <a:lnTo>
                    <a:pt x="1120" y="295"/>
                  </a:lnTo>
                  <a:lnTo>
                    <a:pt x="1081" y="253"/>
                  </a:lnTo>
                  <a:lnTo>
                    <a:pt x="1039" y="216"/>
                  </a:lnTo>
                  <a:lnTo>
                    <a:pt x="996" y="182"/>
                  </a:lnTo>
                  <a:lnTo>
                    <a:pt x="948" y="152"/>
                  </a:lnTo>
                  <a:lnTo>
                    <a:pt x="900" y="125"/>
                  </a:lnTo>
                  <a:lnTo>
                    <a:pt x="849" y="103"/>
                  </a:lnTo>
                  <a:lnTo>
                    <a:pt x="794" y="82"/>
                  </a:lnTo>
                  <a:lnTo>
                    <a:pt x="737" y="68"/>
                  </a:lnTo>
                  <a:lnTo>
                    <a:pt x="620" y="53"/>
                  </a:lnTo>
                  <a:lnTo>
                    <a:pt x="505" y="62"/>
                  </a:lnTo>
                  <a:lnTo>
                    <a:pt x="392" y="94"/>
                  </a:lnTo>
                  <a:lnTo>
                    <a:pt x="330" y="122"/>
                  </a:lnTo>
                  <a:lnTo>
                    <a:pt x="272" y="158"/>
                  </a:lnTo>
                  <a:lnTo>
                    <a:pt x="215" y="203"/>
                  </a:lnTo>
                  <a:lnTo>
                    <a:pt x="163" y="256"/>
                  </a:lnTo>
                  <a:lnTo>
                    <a:pt x="158" y="222"/>
                  </a:lnTo>
                  <a:lnTo>
                    <a:pt x="211" y="168"/>
                  </a:lnTo>
                  <a:lnTo>
                    <a:pt x="266" y="122"/>
                  </a:lnTo>
                  <a:lnTo>
                    <a:pt x="324" y="83"/>
                  </a:lnTo>
                  <a:lnTo>
                    <a:pt x="383" y="53"/>
                  </a:lnTo>
                  <a:lnTo>
                    <a:pt x="444" y="29"/>
                  </a:lnTo>
                  <a:lnTo>
                    <a:pt x="505" y="13"/>
                  </a:lnTo>
                  <a:lnTo>
                    <a:pt x="629" y="0"/>
                  </a:lnTo>
                  <a:lnTo>
                    <a:pt x="754" y="10"/>
                  </a:lnTo>
                  <a:lnTo>
                    <a:pt x="875" y="44"/>
                  </a:lnTo>
                  <a:lnTo>
                    <a:pt x="973" y="91"/>
                  </a:lnTo>
                  <a:lnTo>
                    <a:pt x="1020" y="118"/>
                  </a:lnTo>
                  <a:lnTo>
                    <a:pt x="1063" y="150"/>
                  </a:lnTo>
                  <a:lnTo>
                    <a:pt x="1147" y="224"/>
                  </a:lnTo>
                  <a:lnTo>
                    <a:pt x="1217" y="309"/>
                  </a:lnTo>
                  <a:lnTo>
                    <a:pt x="1286" y="424"/>
                  </a:lnTo>
                  <a:lnTo>
                    <a:pt x="1335" y="552"/>
                  </a:lnTo>
                  <a:lnTo>
                    <a:pt x="1359" y="692"/>
                  </a:lnTo>
                  <a:lnTo>
                    <a:pt x="1356" y="845"/>
                  </a:lnTo>
                  <a:lnTo>
                    <a:pt x="1343" y="922"/>
                  </a:lnTo>
                  <a:lnTo>
                    <a:pt x="1323" y="994"/>
                  </a:lnTo>
                  <a:lnTo>
                    <a:pt x="1297" y="1061"/>
                  </a:lnTo>
                  <a:lnTo>
                    <a:pt x="1265" y="1121"/>
                  </a:lnTo>
                  <a:lnTo>
                    <a:pt x="1228" y="1176"/>
                  </a:lnTo>
                  <a:lnTo>
                    <a:pt x="1184" y="1224"/>
                  </a:lnTo>
                  <a:lnTo>
                    <a:pt x="1138" y="1267"/>
                  </a:lnTo>
                  <a:lnTo>
                    <a:pt x="1087" y="1306"/>
                  </a:lnTo>
                  <a:lnTo>
                    <a:pt x="1026" y="1342"/>
                  </a:lnTo>
                  <a:lnTo>
                    <a:pt x="961" y="1370"/>
                  </a:lnTo>
                  <a:lnTo>
                    <a:pt x="894" y="1391"/>
                  </a:lnTo>
                  <a:lnTo>
                    <a:pt x="824" y="1406"/>
                  </a:lnTo>
                  <a:lnTo>
                    <a:pt x="680" y="1415"/>
                  </a:lnTo>
                  <a:lnTo>
                    <a:pt x="538" y="1397"/>
                  </a:lnTo>
                  <a:lnTo>
                    <a:pt x="417" y="1358"/>
                  </a:lnTo>
                  <a:lnTo>
                    <a:pt x="360" y="1331"/>
                  </a:lnTo>
                  <a:lnTo>
                    <a:pt x="306" y="1300"/>
                  </a:lnTo>
                  <a:lnTo>
                    <a:pt x="206" y="1222"/>
                  </a:lnTo>
                  <a:lnTo>
                    <a:pt x="161" y="1176"/>
                  </a:lnTo>
                  <a:lnTo>
                    <a:pt x="122" y="1125"/>
                  </a:lnTo>
                  <a:lnTo>
                    <a:pt x="57" y="1009"/>
                  </a:lnTo>
                  <a:lnTo>
                    <a:pt x="15" y="874"/>
                  </a:lnTo>
                  <a:lnTo>
                    <a:pt x="0" y="721"/>
                  </a:lnTo>
                  <a:lnTo>
                    <a:pt x="16" y="547"/>
                  </a:lnTo>
                  <a:lnTo>
                    <a:pt x="40" y="550"/>
                  </a:lnTo>
                  <a:lnTo>
                    <a:pt x="40" y="5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4680" y="2229840"/>
              <a:ext cx="302760" cy="396000"/>
            </a:xfrm>
            <a:custGeom>
              <a:avLst/>
              <a:gdLst/>
              <a:ahLst/>
              <a:rect l="l" t="t" r="r" b="b"/>
              <a:pathLst>
                <a:path w="693" h="833">
                  <a:moveTo>
                    <a:pt x="0" y="0"/>
                  </a:moveTo>
                  <a:lnTo>
                    <a:pt x="693" y="13"/>
                  </a:lnTo>
                  <a:lnTo>
                    <a:pt x="475" y="833"/>
                  </a:lnTo>
                  <a:lnTo>
                    <a:pt x="551" y="20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91320" y="2923920"/>
              <a:ext cx="217440" cy="552960"/>
            </a:xfrm>
            <a:custGeom>
              <a:avLst/>
              <a:gdLst/>
              <a:ahLst/>
              <a:rect l="l" t="t" r="r" b="b"/>
              <a:pathLst>
                <a:path w="499" h="1165">
                  <a:moveTo>
                    <a:pt x="0" y="0"/>
                  </a:moveTo>
                  <a:lnTo>
                    <a:pt x="140" y="1165"/>
                  </a:lnTo>
                  <a:lnTo>
                    <a:pt x="499" y="1101"/>
                  </a:lnTo>
                  <a:lnTo>
                    <a:pt x="409" y="1024"/>
                  </a:lnTo>
                  <a:lnTo>
                    <a:pt x="230" y="10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5520" y="3039120"/>
              <a:ext cx="184680" cy="413280"/>
            </a:xfrm>
            <a:custGeom>
              <a:avLst/>
              <a:gdLst/>
              <a:ahLst/>
              <a:rect l="l" t="t" r="r" b="b"/>
              <a:pathLst>
                <a:path w="423" h="870">
                  <a:moveTo>
                    <a:pt x="423" y="0"/>
                  </a:moveTo>
                  <a:lnTo>
                    <a:pt x="256" y="755"/>
                  </a:lnTo>
                  <a:lnTo>
                    <a:pt x="0" y="858"/>
                  </a:lnTo>
                  <a:lnTo>
                    <a:pt x="371" y="870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4240" y="2401560"/>
            <a:ext cx="2135160" cy="1587960"/>
            <a:chOff x="534240" y="2401560"/>
            <a:chExt cx="2135160" cy="1587960"/>
          </a:xfrm>
        </p:grpSpPr>
        <p:sp>
          <p:nvSpPr>
            <p:cNvPr id="88" name=""/>
            <p:cNvSpPr/>
            <p:nvPr/>
          </p:nvSpPr>
          <p:spPr>
            <a:xfrm rot="19750200">
              <a:off x="760680" y="2886840"/>
              <a:ext cx="1857960" cy="620640"/>
            </a:xfrm>
            <a:custGeom>
              <a:avLst/>
              <a:gdLst/>
              <a:ahLst/>
              <a:rect l="l" t="t" r="r" b="b"/>
              <a:pathLst>
                <a:path w="1464" h="998">
                  <a:moveTo>
                    <a:pt x="0" y="88"/>
                  </a:moveTo>
                  <a:lnTo>
                    <a:pt x="42" y="0"/>
                  </a:lnTo>
                  <a:lnTo>
                    <a:pt x="169" y="104"/>
                  </a:lnTo>
                  <a:lnTo>
                    <a:pt x="671" y="476"/>
                  </a:lnTo>
                  <a:lnTo>
                    <a:pt x="806" y="531"/>
                  </a:lnTo>
                  <a:lnTo>
                    <a:pt x="1404" y="927"/>
                  </a:lnTo>
                  <a:lnTo>
                    <a:pt x="1464" y="998"/>
                  </a:lnTo>
                  <a:lnTo>
                    <a:pt x="525" y="482"/>
                  </a:lnTo>
                  <a:lnTo>
                    <a:pt x="79" y="161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750200">
              <a:off x="643680" y="2853360"/>
              <a:ext cx="1953000" cy="683640"/>
            </a:xfrm>
            <a:custGeom>
              <a:avLst/>
              <a:gdLst/>
              <a:ahLst/>
              <a:rect l="l" t="t" r="r" b="b"/>
              <a:pathLst>
                <a:path w="1541" h="1102">
                  <a:moveTo>
                    <a:pt x="0" y="181"/>
                  </a:moveTo>
                  <a:lnTo>
                    <a:pt x="17" y="124"/>
                  </a:lnTo>
                  <a:lnTo>
                    <a:pt x="65" y="33"/>
                  </a:lnTo>
                  <a:lnTo>
                    <a:pt x="114" y="0"/>
                  </a:lnTo>
                  <a:lnTo>
                    <a:pt x="141" y="72"/>
                  </a:lnTo>
                  <a:lnTo>
                    <a:pt x="105" y="166"/>
                  </a:lnTo>
                  <a:lnTo>
                    <a:pt x="196" y="248"/>
                  </a:lnTo>
                  <a:lnTo>
                    <a:pt x="434" y="412"/>
                  </a:lnTo>
                  <a:lnTo>
                    <a:pt x="593" y="548"/>
                  </a:lnTo>
                  <a:lnTo>
                    <a:pt x="590" y="482"/>
                  </a:lnTo>
                  <a:lnTo>
                    <a:pt x="798" y="600"/>
                  </a:lnTo>
                  <a:lnTo>
                    <a:pt x="826" y="659"/>
                  </a:lnTo>
                  <a:lnTo>
                    <a:pt x="1541" y="1102"/>
                  </a:lnTo>
                  <a:lnTo>
                    <a:pt x="1267" y="992"/>
                  </a:lnTo>
                  <a:lnTo>
                    <a:pt x="757" y="657"/>
                  </a:lnTo>
                  <a:lnTo>
                    <a:pt x="618" y="617"/>
                  </a:lnTo>
                  <a:lnTo>
                    <a:pt x="178" y="317"/>
                  </a:lnTo>
                  <a:lnTo>
                    <a:pt x="20" y="247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99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750200">
              <a:off x="808200" y="3060720"/>
              <a:ext cx="456480" cy="370800"/>
            </a:xfrm>
            <a:custGeom>
              <a:avLst/>
              <a:gdLst/>
              <a:ahLst/>
              <a:rect l="l" t="t" r="r" b="b"/>
              <a:pathLst>
                <a:path w="359" h="598">
                  <a:moveTo>
                    <a:pt x="0" y="301"/>
                  </a:moveTo>
                  <a:lnTo>
                    <a:pt x="30" y="186"/>
                  </a:lnTo>
                  <a:lnTo>
                    <a:pt x="72" y="0"/>
                  </a:lnTo>
                  <a:lnTo>
                    <a:pt x="149" y="28"/>
                  </a:lnTo>
                  <a:lnTo>
                    <a:pt x="174" y="71"/>
                  </a:lnTo>
                  <a:lnTo>
                    <a:pt x="198" y="304"/>
                  </a:lnTo>
                  <a:lnTo>
                    <a:pt x="267" y="189"/>
                  </a:lnTo>
                  <a:lnTo>
                    <a:pt x="297" y="273"/>
                  </a:lnTo>
                  <a:lnTo>
                    <a:pt x="359" y="385"/>
                  </a:lnTo>
                  <a:lnTo>
                    <a:pt x="334" y="598"/>
                  </a:lnTo>
                  <a:lnTo>
                    <a:pt x="132" y="432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750200">
              <a:off x="682560" y="3348720"/>
              <a:ext cx="833760" cy="236520"/>
            </a:xfrm>
            <a:custGeom>
              <a:avLst/>
              <a:gdLst/>
              <a:ahLst/>
              <a:rect l="l" t="t" r="r" b="b"/>
              <a:pathLst>
                <a:path w="657" h="381">
                  <a:moveTo>
                    <a:pt x="175" y="0"/>
                  </a:moveTo>
                  <a:lnTo>
                    <a:pt x="251" y="20"/>
                  </a:lnTo>
                  <a:lnTo>
                    <a:pt x="510" y="205"/>
                  </a:lnTo>
                  <a:lnTo>
                    <a:pt x="657" y="323"/>
                  </a:lnTo>
                  <a:lnTo>
                    <a:pt x="594" y="330"/>
                  </a:lnTo>
                  <a:lnTo>
                    <a:pt x="420" y="381"/>
                  </a:lnTo>
                  <a:lnTo>
                    <a:pt x="329" y="348"/>
                  </a:lnTo>
                  <a:lnTo>
                    <a:pt x="346" y="284"/>
                  </a:lnTo>
                  <a:lnTo>
                    <a:pt x="197" y="314"/>
                  </a:lnTo>
                  <a:lnTo>
                    <a:pt x="0" y="199"/>
                  </a:lnTo>
                  <a:lnTo>
                    <a:pt x="124" y="47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750200">
              <a:off x="826920" y="3101760"/>
              <a:ext cx="365040" cy="333360"/>
            </a:xfrm>
            <a:custGeom>
              <a:avLst/>
              <a:gdLst/>
              <a:ahLst/>
              <a:rect l="l" t="t" r="r" b="b"/>
              <a:pathLst>
                <a:path w="289" h="536">
                  <a:moveTo>
                    <a:pt x="9" y="228"/>
                  </a:moveTo>
                  <a:lnTo>
                    <a:pt x="81" y="0"/>
                  </a:lnTo>
                  <a:lnTo>
                    <a:pt x="74" y="176"/>
                  </a:lnTo>
                  <a:lnTo>
                    <a:pt x="74" y="245"/>
                  </a:lnTo>
                  <a:lnTo>
                    <a:pt x="125" y="173"/>
                  </a:lnTo>
                  <a:lnTo>
                    <a:pt x="164" y="333"/>
                  </a:lnTo>
                  <a:lnTo>
                    <a:pt x="189" y="264"/>
                  </a:lnTo>
                  <a:lnTo>
                    <a:pt x="258" y="149"/>
                  </a:lnTo>
                  <a:lnTo>
                    <a:pt x="244" y="275"/>
                  </a:lnTo>
                  <a:lnTo>
                    <a:pt x="207" y="352"/>
                  </a:lnTo>
                  <a:lnTo>
                    <a:pt x="234" y="388"/>
                  </a:lnTo>
                  <a:lnTo>
                    <a:pt x="288" y="360"/>
                  </a:lnTo>
                  <a:lnTo>
                    <a:pt x="283" y="455"/>
                  </a:lnTo>
                  <a:lnTo>
                    <a:pt x="289" y="536"/>
                  </a:lnTo>
                  <a:lnTo>
                    <a:pt x="181" y="436"/>
                  </a:lnTo>
                  <a:lnTo>
                    <a:pt x="0" y="275"/>
                  </a:lnTo>
                  <a:lnTo>
                    <a:pt x="9" y="228"/>
                  </a:lnTo>
                  <a:lnTo>
                    <a:pt x="9" y="228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750200">
              <a:off x="725040" y="3325680"/>
              <a:ext cx="791640" cy="245880"/>
            </a:xfrm>
            <a:custGeom>
              <a:avLst/>
              <a:gdLst/>
              <a:ahLst/>
              <a:rect l="l" t="t" r="r" b="b"/>
              <a:pathLst>
                <a:path w="622" h="397">
                  <a:moveTo>
                    <a:pt x="121" y="0"/>
                  </a:moveTo>
                  <a:lnTo>
                    <a:pt x="212" y="36"/>
                  </a:lnTo>
                  <a:lnTo>
                    <a:pt x="556" y="273"/>
                  </a:lnTo>
                  <a:lnTo>
                    <a:pt x="622" y="336"/>
                  </a:lnTo>
                  <a:lnTo>
                    <a:pt x="486" y="366"/>
                  </a:lnTo>
                  <a:lnTo>
                    <a:pt x="381" y="397"/>
                  </a:lnTo>
                  <a:lnTo>
                    <a:pt x="290" y="364"/>
                  </a:lnTo>
                  <a:lnTo>
                    <a:pt x="329" y="279"/>
                  </a:lnTo>
                  <a:lnTo>
                    <a:pt x="187" y="260"/>
                  </a:lnTo>
                  <a:lnTo>
                    <a:pt x="259" y="172"/>
                  </a:lnTo>
                  <a:lnTo>
                    <a:pt x="118" y="198"/>
                  </a:lnTo>
                  <a:lnTo>
                    <a:pt x="148" y="116"/>
                  </a:lnTo>
                  <a:lnTo>
                    <a:pt x="93" y="154"/>
                  </a:lnTo>
                  <a:lnTo>
                    <a:pt x="0" y="222"/>
                  </a:lnTo>
                  <a:lnTo>
                    <a:pt x="1" y="155"/>
                  </a:lnTo>
                  <a:lnTo>
                    <a:pt x="120" y="45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750200">
              <a:off x="813600" y="3000960"/>
              <a:ext cx="491040" cy="411480"/>
            </a:xfrm>
            <a:custGeom>
              <a:avLst/>
              <a:gdLst/>
              <a:ahLst/>
              <a:rect l="l" t="t" r="r" b="b"/>
              <a:pathLst>
                <a:path w="386" h="664">
                  <a:moveTo>
                    <a:pt x="0" y="337"/>
                  </a:moveTo>
                  <a:lnTo>
                    <a:pt x="5" y="182"/>
                  </a:lnTo>
                  <a:lnTo>
                    <a:pt x="9" y="19"/>
                  </a:lnTo>
                  <a:lnTo>
                    <a:pt x="45" y="0"/>
                  </a:lnTo>
                  <a:lnTo>
                    <a:pt x="89" y="33"/>
                  </a:lnTo>
                  <a:lnTo>
                    <a:pt x="180" y="122"/>
                  </a:lnTo>
                  <a:lnTo>
                    <a:pt x="178" y="158"/>
                  </a:lnTo>
                  <a:lnTo>
                    <a:pt x="186" y="301"/>
                  </a:lnTo>
                  <a:lnTo>
                    <a:pt x="213" y="212"/>
                  </a:lnTo>
                  <a:lnTo>
                    <a:pt x="243" y="166"/>
                  </a:lnTo>
                  <a:lnTo>
                    <a:pt x="262" y="197"/>
                  </a:lnTo>
                  <a:lnTo>
                    <a:pt x="270" y="246"/>
                  </a:lnTo>
                  <a:lnTo>
                    <a:pt x="306" y="366"/>
                  </a:lnTo>
                  <a:lnTo>
                    <a:pt x="386" y="445"/>
                  </a:lnTo>
                  <a:lnTo>
                    <a:pt x="365" y="490"/>
                  </a:lnTo>
                  <a:lnTo>
                    <a:pt x="338" y="606"/>
                  </a:lnTo>
                  <a:lnTo>
                    <a:pt x="344" y="664"/>
                  </a:lnTo>
                  <a:lnTo>
                    <a:pt x="316" y="633"/>
                  </a:lnTo>
                  <a:lnTo>
                    <a:pt x="309" y="558"/>
                  </a:lnTo>
                  <a:lnTo>
                    <a:pt x="328" y="445"/>
                  </a:lnTo>
                  <a:lnTo>
                    <a:pt x="279" y="395"/>
                  </a:lnTo>
                  <a:lnTo>
                    <a:pt x="241" y="292"/>
                  </a:lnTo>
                  <a:lnTo>
                    <a:pt x="214" y="330"/>
                  </a:lnTo>
                  <a:lnTo>
                    <a:pt x="160" y="485"/>
                  </a:lnTo>
                  <a:lnTo>
                    <a:pt x="144" y="346"/>
                  </a:lnTo>
                  <a:lnTo>
                    <a:pt x="149" y="154"/>
                  </a:lnTo>
                  <a:lnTo>
                    <a:pt x="81" y="95"/>
                  </a:lnTo>
                  <a:lnTo>
                    <a:pt x="71" y="213"/>
                  </a:lnTo>
                  <a:lnTo>
                    <a:pt x="0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750200">
              <a:off x="632160" y="2872440"/>
              <a:ext cx="1933920" cy="655920"/>
            </a:xfrm>
            <a:custGeom>
              <a:avLst/>
              <a:gdLst/>
              <a:ahLst/>
              <a:rect l="l" t="t" r="r" b="b"/>
              <a:pathLst>
                <a:path w="1524" h="1057">
                  <a:moveTo>
                    <a:pt x="1441" y="977"/>
                  </a:moveTo>
                  <a:lnTo>
                    <a:pt x="1109" y="757"/>
                  </a:lnTo>
                  <a:lnTo>
                    <a:pt x="888" y="621"/>
                  </a:lnTo>
                  <a:lnTo>
                    <a:pt x="658" y="497"/>
                  </a:lnTo>
                  <a:lnTo>
                    <a:pt x="456" y="347"/>
                  </a:lnTo>
                  <a:lnTo>
                    <a:pt x="213" y="147"/>
                  </a:lnTo>
                  <a:lnTo>
                    <a:pt x="127" y="0"/>
                  </a:lnTo>
                  <a:lnTo>
                    <a:pt x="115" y="97"/>
                  </a:lnTo>
                  <a:lnTo>
                    <a:pt x="85" y="167"/>
                  </a:lnTo>
                  <a:lnTo>
                    <a:pt x="35" y="209"/>
                  </a:lnTo>
                  <a:lnTo>
                    <a:pt x="0" y="208"/>
                  </a:lnTo>
                  <a:lnTo>
                    <a:pt x="10" y="244"/>
                  </a:lnTo>
                  <a:lnTo>
                    <a:pt x="65" y="248"/>
                  </a:lnTo>
                  <a:lnTo>
                    <a:pt x="100" y="224"/>
                  </a:lnTo>
                  <a:lnTo>
                    <a:pt x="133" y="179"/>
                  </a:lnTo>
                  <a:lnTo>
                    <a:pt x="149" y="129"/>
                  </a:lnTo>
                  <a:lnTo>
                    <a:pt x="254" y="223"/>
                  </a:lnTo>
                  <a:lnTo>
                    <a:pt x="439" y="373"/>
                  </a:lnTo>
                  <a:lnTo>
                    <a:pt x="617" y="520"/>
                  </a:lnTo>
                  <a:lnTo>
                    <a:pt x="900" y="654"/>
                  </a:lnTo>
                  <a:lnTo>
                    <a:pt x="1150" y="817"/>
                  </a:lnTo>
                  <a:lnTo>
                    <a:pt x="1524" y="1057"/>
                  </a:lnTo>
                  <a:lnTo>
                    <a:pt x="1441" y="977"/>
                  </a:lnTo>
                  <a:lnTo>
                    <a:pt x="1441" y="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750200">
              <a:off x="617760" y="3344760"/>
              <a:ext cx="289080" cy="176760"/>
            </a:xfrm>
            <a:custGeom>
              <a:avLst/>
              <a:gdLst/>
              <a:ahLst/>
              <a:rect l="l" t="t" r="r" b="b"/>
              <a:pathLst>
                <a:path w="228" h="286">
                  <a:moveTo>
                    <a:pt x="101" y="0"/>
                  </a:moveTo>
                  <a:lnTo>
                    <a:pt x="34" y="70"/>
                  </a:lnTo>
                  <a:lnTo>
                    <a:pt x="0" y="141"/>
                  </a:lnTo>
                  <a:lnTo>
                    <a:pt x="22" y="227"/>
                  </a:lnTo>
                  <a:lnTo>
                    <a:pt x="178" y="286"/>
                  </a:lnTo>
                  <a:lnTo>
                    <a:pt x="228" y="258"/>
                  </a:lnTo>
                  <a:lnTo>
                    <a:pt x="62" y="206"/>
                  </a:lnTo>
                  <a:lnTo>
                    <a:pt x="38" y="171"/>
                  </a:lnTo>
                  <a:lnTo>
                    <a:pt x="37" y="95"/>
                  </a:lnTo>
                  <a:lnTo>
                    <a:pt x="79" y="47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750200">
              <a:off x="532800" y="3372120"/>
              <a:ext cx="1020240" cy="275760"/>
            </a:xfrm>
            <a:custGeom>
              <a:avLst/>
              <a:gdLst/>
              <a:ahLst/>
              <a:rect l="l" t="t" r="r" b="b"/>
              <a:pathLst>
                <a:path w="805" h="446">
                  <a:moveTo>
                    <a:pt x="302" y="4"/>
                  </a:moveTo>
                  <a:lnTo>
                    <a:pt x="160" y="139"/>
                  </a:lnTo>
                  <a:lnTo>
                    <a:pt x="63" y="179"/>
                  </a:lnTo>
                  <a:lnTo>
                    <a:pt x="22" y="227"/>
                  </a:lnTo>
                  <a:lnTo>
                    <a:pt x="0" y="306"/>
                  </a:lnTo>
                  <a:lnTo>
                    <a:pt x="31" y="319"/>
                  </a:lnTo>
                  <a:lnTo>
                    <a:pt x="158" y="303"/>
                  </a:lnTo>
                  <a:lnTo>
                    <a:pt x="271" y="325"/>
                  </a:lnTo>
                  <a:lnTo>
                    <a:pt x="353" y="367"/>
                  </a:lnTo>
                  <a:lnTo>
                    <a:pt x="459" y="313"/>
                  </a:lnTo>
                  <a:lnTo>
                    <a:pt x="423" y="384"/>
                  </a:lnTo>
                  <a:lnTo>
                    <a:pt x="507" y="390"/>
                  </a:lnTo>
                  <a:lnTo>
                    <a:pt x="574" y="446"/>
                  </a:lnTo>
                  <a:lnTo>
                    <a:pt x="640" y="388"/>
                  </a:lnTo>
                  <a:lnTo>
                    <a:pt x="721" y="358"/>
                  </a:lnTo>
                  <a:lnTo>
                    <a:pt x="805" y="330"/>
                  </a:lnTo>
                  <a:lnTo>
                    <a:pt x="751" y="319"/>
                  </a:lnTo>
                  <a:lnTo>
                    <a:pt x="615" y="354"/>
                  </a:lnTo>
                  <a:lnTo>
                    <a:pt x="564" y="375"/>
                  </a:lnTo>
                  <a:lnTo>
                    <a:pt x="504" y="336"/>
                  </a:lnTo>
                  <a:lnTo>
                    <a:pt x="540" y="261"/>
                  </a:lnTo>
                  <a:lnTo>
                    <a:pt x="372" y="307"/>
                  </a:lnTo>
                  <a:lnTo>
                    <a:pt x="278" y="239"/>
                  </a:lnTo>
                  <a:lnTo>
                    <a:pt x="194" y="197"/>
                  </a:lnTo>
                  <a:lnTo>
                    <a:pt x="256" y="104"/>
                  </a:lnTo>
                  <a:lnTo>
                    <a:pt x="357" y="0"/>
                  </a:lnTo>
                  <a:lnTo>
                    <a:pt x="302" y="4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9750200">
              <a:off x="881640" y="3313440"/>
              <a:ext cx="555120" cy="187920"/>
            </a:xfrm>
            <a:custGeom>
              <a:avLst/>
              <a:gdLst/>
              <a:ahLst/>
              <a:rect l="l" t="t" r="r" b="b"/>
              <a:pathLst>
                <a:path w="436" h="302">
                  <a:moveTo>
                    <a:pt x="104" y="79"/>
                  </a:moveTo>
                  <a:lnTo>
                    <a:pt x="0" y="154"/>
                  </a:lnTo>
                  <a:lnTo>
                    <a:pt x="157" y="114"/>
                  </a:lnTo>
                  <a:lnTo>
                    <a:pt x="185" y="162"/>
                  </a:lnTo>
                  <a:lnTo>
                    <a:pt x="92" y="211"/>
                  </a:lnTo>
                  <a:lnTo>
                    <a:pt x="270" y="169"/>
                  </a:lnTo>
                  <a:lnTo>
                    <a:pt x="324" y="244"/>
                  </a:lnTo>
                  <a:lnTo>
                    <a:pt x="254" y="302"/>
                  </a:lnTo>
                  <a:lnTo>
                    <a:pt x="436" y="260"/>
                  </a:lnTo>
                  <a:lnTo>
                    <a:pt x="348" y="196"/>
                  </a:lnTo>
                  <a:lnTo>
                    <a:pt x="246" y="126"/>
                  </a:lnTo>
                  <a:lnTo>
                    <a:pt x="70" y="0"/>
                  </a:lnTo>
                  <a:lnTo>
                    <a:pt x="104" y="79"/>
                  </a:lnTo>
                  <a:lnTo>
                    <a:pt x="10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750200">
              <a:off x="966960" y="3256560"/>
              <a:ext cx="48960" cy="106200"/>
            </a:xfrm>
            <a:custGeom>
              <a:avLst/>
              <a:gdLst/>
              <a:ahLst/>
              <a:rect l="l" t="t" r="r" b="b"/>
              <a:pathLst>
                <a:path w="38" h="169">
                  <a:moveTo>
                    <a:pt x="0" y="126"/>
                  </a:moveTo>
                  <a:lnTo>
                    <a:pt x="24" y="0"/>
                  </a:lnTo>
                  <a:lnTo>
                    <a:pt x="38" y="169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750200">
              <a:off x="1183320" y="3219120"/>
              <a:ext cx="68040" cy="98640"/>
            </a:xfrm>
            <a:custGeom>
              <a:avLst/>
              <a:gdLst/>
              <a:ahLst/>
              <a:rect l="l" t="t" r="r" b="b"/>
              <a:pathLst>
                <a:path w="54" h="158">
                  <a:moveTo>
                    <a:pt x="6" y="118"/>
                  </a:moveTo>
                  <a:lnTo>
                    <a:pt x="0" y="70"/>
                  </a:lnTo>
                  <a:lnTo>
                    <a:pt x="30" y="0"/>
                  </a:lnTo>
                  <a:lnTo>
                    <a:pt x="25" y="95"/>
                  </a:lnTo>
                  <a:lnTo>
                    <a:pt x="54" y="158"/>
                  </a:lnTo>
                  <a:lnTo>
                    <a:pt x="6" y="118"/>
                  </a:lnTo>
                  <a:lnTo>
                    <a:pt x="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750200">
              <a:off x="1355400" y="2986200"/>
              <a:ext cx="1312920" cy="365400"/>
            </a:xfrm>
            <a:custGeom>
              <a:avLst/>
              <a:gdLst/>
              <a:ahLst/>
              <a:rect l="l" t="t" r="r" b="b"/>
              <a:pathLst>
                <a:path w="1037" h="586">
                  <a:moveTo>
                    <a:pt x="0" y="0"/>
                  </a:moveTo>
                  <a:lnTo>
                    <a:pt x="114" y="56"/>
                  </a:lnTo>
                  <a:lnTo>
                    <a:pt x="264" y="118"/>
                  </a:lnTo>
                  <a:lnTo>
                    <a:pt x="467" y="246"/>
                  </a:lnTo>
                  <a:lnTo>
                    <a:pt x="713" y="398"/>
                  </a:lnTo>
                  <a:lnTo>
                    <a:pt x="790" y="440"/>
                  </a:lnTo>
                  <a:lnTo>
                    <a:pt x="1013" y="558"/>
                  </a:lnTo>
                  <a:lnTo>
                    <a:pt x="1037" y="586"/>
                  </a:lnTo>
                  <a:lnTo>
                    <a:pt x="783" y="476"/>
                  </a:lnTo>
                  <a:lnTo>
                    <a:pt x="217" y="122"/>
                  </a:lnTo>
                  <a:lnTo>
                    <a:pt x="77" y="8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750200">
              <a:off x="1479600" y="3051720"/>
              <a:ext cx="396000" cy="162000"/>
            </a:xfrm>
            <a:custGeom>
              <a:avLst/>
              <a:gdLst/>
              <a:ahLst/>
              <a:rect l="l" t="t" r="r" b="b"/>
              <a:pathLst>
                <a:path w="314" h="260">
                  <a:moveTo>
                    <a:pt x="0" y="0"/>
                  </a:moveTo>
                  <a:lnTo>
                    <a:pt x="8" y="39"/>
                  </a:lnTo>
                  <a:lnTo>
                    <a:pt x="106" y="87"/>
                  </a:lnTo>
                  <a:lnTo>
                    <a:pt x="314" y="260"/>
                  </a:lnTo>
                  <a:lnTo>
                    <a:pt x="208" y="103"/>
                  </a:lnTo>
                  <a:lnTo>
                    <a:pt x="3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750200">
              <a:off x="1427760" y="3315240"/>
              <a:ext cx="380520" cy="57240"/>
            </a:xfrm>
            <a:custGeom>
              <a:avLst/>
              <a:gdLst/>
              <a:ahLst/>
              <a:rect l="l" t="t" r="r" b="b"/>
              <a:pathLst>
                <a:path w="300" h="91">
                  <a:moveTo>
                    <a:pt x="18" y="0"/>
                  </a:moveTo>
                  <a:lnTo>
                    <a:pt x="126" y="18"/>
                  </a:lnTo>
                  <a:lnTo>
                    <a:pt x="300" y="91"/>
                  </a:lnTo>
                  <a:lnTo>
                    <a:pt x="60" y="45"/>
                  </a:lnTo>
                  <a:lnTo>
                    <a:pt x="0" y="2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750200">
              <a:off x="1111320" y="2936160"/>
              <a:ext cx="205200" cy="191880"/>
            </a:xfrm>
            <a:custGeom>
              <a:avLst/>
              <a:gdLst/>
              <a:ahLst/>
              <a:rect l="l" t="t" r="r" b="b"/>
              <a:pathLst>
                <a:path w="162" h="309">
                  <a:moveTo>
                    <a:pt x="29" y="68"/>
                  </a:moveTo>
                  <a:lnTo>
                    <a:pt x="58" y="183"/>
                  </a:lnTo>
                  <a:lnTo>
                    <a:pt x="162" y="309"/>
                  </a:lnTo>
                  <a:lnTo>
                    <a:pt x="79" y="140"/>
                  </a:lnTo>
                  <a:lnTo>
                    <a:pt x="67" y="58"/>
                  </a:lnTo>
                  <a:lnTo>
                    <a:pt x="0" y="0"/>
                  </a:lnTo>
                  <a:lnTo>
                    <a:pt x="29" y="68"/>
                  </a:lnTo>
                  <a:lnTo>
                    <a:pt x="2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9750200">
              <a:off x="615600" y="3772080"/>
              <a:ext cx="380520" cy="35280"/>
            </a:xfrm>
            <a:custGeom>
              <a:avLst/>
              <a:gdLst/>
              <a:ahLst/>
              <a:rect l="l" t="t" r="r" b="b"/>
              <a:pathLst>
                <a:path w="298" h="58">
                  <a:moveTo>
                    <a:pt x="0" y="25"/>
                  </a:moveTo>
                  <a:lnTo>
                    <a:pt x="126" y="0"/>
                  </a:lnTo>
                  <a:lnTo>
                    <a:pt x="298" y="35"/>
                  </a:lnTo>
                  <a:lnTo>
                    <a:pt x="119" y="40"/>
                  </a:lnTo>
                  <a:lnTo>
                    <a:pt x="29" y="58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9750200">
              <a:off x="630360" y="3801960"/>
              <a:ext cx="452160" cy="31680"/>
            </a:xfrm>
            <a:custGeom>
              <a:avLst/>
              <a:gdLst/>
              <a:ahLst/>
              <a:rect l="l" t="t" r="r" b="b"/>
              <a:pathLst>
                <a:path w="357" h="49">
                  <a:moveTo>
                    <a:pt x="0" y="42"/>
                  </a:moveTo>
                  <a:lnTo>
                    <a:pt x="193" y="0"/>
                  </a:lnTo>
                  <a:lnTo>
                    <a:pt x="357" y="8"/>
                  </a:lnTo>
                  <a:lnTo>
                    <a:pt x="166" y="49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750200">
              <a:off x="1249920" y="2913840"/>
              <a:ext cx="140400" cy="109800"/>
            </a:xfrm>
            <a:custGeom>
              <a:avLst/>
              <a:gdLst/>
              <a:ahLst/>
              <a:rect l="l" t="t" r="r" b="b"/>
              <a:pathLst>
                <a:path w="109" h="176">
                  <a:moveTo>
                    <a:pt x="0" y="0"/>
                  </a:moveTo>
                  <a:lnTo>
                    <a:pt x="18" y="77"/>
                  </a:lnTo>
                  <a:lnTo>
                    <a:pt x="109" y="176"/>
                  </a:lnTo>
                  <a:lnTo>
                    <a:pt x="58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87440" y="3361680"/>
            <a:ext cx="2322720" cy="1507320"/>
            <a:chOff x="1387440" y="3361680"/>
            <a:chExt cx="2322720" cy="1507320"/>
          </a:xfrm>
        </p:grpSpPr>
        <p:sp>
          <p:nvSpPr>
            <p:cNvPr id="109" name=""/>
            <p:cNvSpPr/>
            <p:nvPr/>
          </p:nvSpPr>
          <p:spPr>
            <a:xfrm>
              <a:off x="1387440" y="3882960"/>
              <a:ext cx="2322720" cy="98604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5400000"/>
            </a:gradFill>
            <a:ln w="25560">
              <a:solidFill>
                <a:srgbClr val="022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777777"/>
                  </a:solidFill>
                  <a:latin typeface="Comic Sans MS"/>
                </a:rPr>
                <a:t>Qualité</a:t>
              </a:r>
              <a:endParaRPr b="0" lang="en-US" sz="22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6063000">
              <a:off x="2442960" y="3460320"/>
              <a:ext cx="492120" cy="352440"/>
            </a:xfrm>
            <a:custGeom>
              <a:avLst/>
              <a:gdLst>
                <a:gd name="textAreaLeft" fmla="*/ 61560 w 492120"/>
                <a:gd name="textAreaRight" fmla="*/ 430920 w 4921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4c991"/>
            </a:solidFill>
            <a:ln w="9360">
              <a:solidFill>
                <a:srgbClr val="022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412600" y="1066680"/>
            <a:ext cx="2872440" cy="1031040"/>
            <a:chOff x="5412600" y="1066680"/>
            <a:chExt cx="2872440" cy="1031040"/>
          </a:xfrm>
        </p:grpSpPr>
        <p:sp>
          <p:nvSpPr>
            <p:cNvPr id="112" name=""/>
            <p:cNvSpPr/>
            <p:nvPr/>
          </p:nvSpPr>
          <p:spPr>
            <a:xfrm>
              <a:off x="5962680" y="1066680"/>
              <a:ext cx="2322360" cy="98604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5400000"/>
            </a:gradFill>
            <a:ln w="25560">
              <a:solidFill>
                <a:srgbClr val="022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777777"/>
                  </a:solidFill>
                  <a:latin typeface="Comic Sans MS"/>
                </a:rPr>
                <a:t>Facturation,</a:t>
              </a:r>
              <a:endParaRPr b="0" lang="en-US" sz="2200" spc="-1" strike="noStrike">
                <a:solidFill>
                  <a:srgbClr val="02204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777777"/>
                  </a:solidFill>
                  <a:latin typeface="Comic Sans MS"/>
                </a:rPr>
                <a:t>Paiement</a:t>
              </a:r>
              <a:endParaRPr b="0" lang="en-US" sz="22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9321800">
              <a:off x="5468400" y="1630440"/>
              <a:ext cx="493920" cy="352440"/>
            </a:xfrm>
            <a:custGeom>
              <a:avLst/>
              <a:gdLst>
                <a:gd name="textAreaLeft" fmla="*/ 61560 w 493920"/>
                <a:gd name="textAreaRight" fmla="*/ 432360 w 4939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4c991"/>
            </a:solidFill>
            <a:ln w="9360">
              <a:solidFill>
                <a:srgbClr val="022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204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495760" y="2613960"/>
            <a:ext cx="3782880" cy="1791360"/>
            <a:chOff x="5495760" y="2613960"/>
            <a:chExt cx="3782880" cy="1791360"/>
          </a:xfrm>
        </p:grpSpPr>
        <p:grpSp>
          <p:nvGrpSpPr>
            <p:cNvPr id="115" name=""/>
            <p:cNvGrpSpPr/>
            <p:nvPr/>
          </p:nvGrpSpPr>
          <p:grpSpPr>
            <a:xfrm>
              <a:off x="5495760" y="2613960"/>
              <a:ext cx="3114720" cy="988200"/>
              <a:chOff x="5495760" y="2613960"/>
              <a:chExt cx="3114720" cy="988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095880" y="2616120"/>
                <a:ext cx="2514600" cy="9860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022040"/>
                    </a:solidFill>
                    <a:latin typeface="Comic Sans MS"/>
                  </a:rPr>
                  <a:t>Logistique</a:t>
                </a:r>
                <a:endParaRPr b="0" lang="en-US" sz="2200" spc="-1" strike="noStrike">
                  <a:solidFill>
                    <a:srgbClr val="02204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022040"/>
                    </a:solidFill>
                    <a:latin typeface="Comic Sans MS"/>
                  </a:rPr>
                  <a:t>de Production </a:t>
                </a:r>
                <a:endParaRPr b="0" lang="en-US" sz="2200" spc="-1" strike="noStrike">
                  <a:solidFill>
                    <a:srgbClr val="02204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022040"/>
                    </a:solidFill>
                    <a:latin typeface="Comic Sans MS"/>
                  </a:rPr>
                  <a:t>collaborative</a:t>
                </a:r>
                <a:endParaRPr b="0" lang="en-US" sz="22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171200">
                <a:off x="5540400" y="2685960"/>
                <a:ext cx="492120" cy="352440"/>
              </a:xfrm>
              <a:custGeom>
                <a:avLst/>
                <a:gdLst>
                  <a:gd name="textAreaLeft" fmla="*/ 61560 w 492120"/>
                  <a:gd name="textAreaRight" fmla="*/ 430920 w 492120"/>
                  <a:gd name="textAreaTop" fmla="*/ 88200 h 352440"/>
                  <a:gd name="textAreaBottom" fmla="*/ 26460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142760" y="3581280"/>
              <a:ext cx="2135880" cy="824040"/>
              <a:chOff x="7142760" y="3581280"/>
              <a:chExt cx="2135880" cy="824040"/>
            </a:xfrm>
          </p:grpSpPr>
          <p:sp>
            <p:nvSpPr>
              <p:cNvPr id="119" name=""/>
              <p:cNvSpPr/>
              <p:nvPr/>
            </p:nvSpPr>
            <p:spPr>
              <a:xfrm>
                <a:off x="7142760" y="3581280"/>
                <a:ext cx="2135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ff33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Meilleure visibilité</a:t>
                </a:r>
                <a:br>
                  <a:rPr sz="1200"/>
                </a:b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- Plus grande anticipation</a:t>
                </a:r>
                <a:br>
                  <a:rPr sz="1200"/>
                </a:b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- Meilleure réactivité </a:t>
                </a:r>
                <a:br>
                  <a:rPr sz="1200"/>
                </a:b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- Meilleur suivi</a:t>
                </a:r>
                <a:endParaRPr b="0" lang="en-US" sz="12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62920" y="3657600"/>
                <a:ext cx="0" cy="633240"/>
              </a:xfrm>
              <a:prstGeom prst="line">
                <a:avLst/>
              </a:prstGeom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4484520" y="3263760"/>
            <a:ext cx="3465720" cy="2235600"/>
            <a:chOff x="4484520" y="3263760"/>
            <a:chExt cx="3465720" cy="2235600"/>
          </a:xfrm>
        </p:grpSpPr>
        <p:grpSp>
          <p:nvGrpSpPr>
            <p:cNvPr id="122" name=""/>
            <p:cNvGrpSpPr/>
            <p:nvPr/>
          </p:nvGrpSpPr>
          <p:grpSpPr>
            <a:xfrm>
              <a:off x="4484520" y="3263760"/>
              <a:ext cx="2322720" cy="1463760"/>
              <a:chOff x="4484520" y="3263760"/>
              <a:chExt cx="2322720" cy="1463760"/>
            </a:xfrm>
          </p:grpSpPr>
          <p:sp>
            <p:nvSpPr>
              <p:cNvPr id="123" name=""/>
              <p:cNvSpPr/>
              <p:nvPr/>
            </p:nvSpPr>
            <p:spPr>
              <a:xfrm>
                <a:off x="4484520" y="3741840"/>
                <a:ext cx="2322720" cy="9856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022040"/>
                    </a:solidFill>
                    <a:latin typeface="Comic Sans MS"/>
                  </a:rPr>
                  <a:t>Diffusion de</a:t>
                </a:r>
                <a:endParaRPr b="0" lang="en-US" sz="2200" spc="-1" strike="noStrike">
                  <a:solidFill>
                    <a:srgbClr val="02204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022040"/>
                    </a:solidFill>
                    <a:latin typeface="Comic Sans MS"/>
                  </a:rPr>
                  <a:t>documentation</a:t>
                </a:r>
                <a:endParaRPr b="0" lang="en-US" sz="22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084000">
                <a:off x="4694760" y="3390120"/>
                <a:ext cx="493560" cy="352440"/>
              </a:xfrm>
              <a:custGeom>
                <a:avLst/>
                <a:gdLst>
                  <a:gd name="textAreaLeft" fmla="*/ 61560 w 493560"/>
                  <a:gd name="textAreaRight" fmla="*/ 432000 w 493560"/>
                  <a:gd name="textAreaTop" fmla="*/ 88200 h 352440"/>
                  <a:gd name="textAreaBottom" fmla="*/ 26460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187680" y="4637160"/>
              <a:ext cx="1762560" cy="862200"/>
              <a:chOff x="6187680" y="4637160"/>
              <a:chExt cx="1762560" cy="86220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7680" y="4637160"/>
                <a:ext cx="176256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ff33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 </a:t>
                </a: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Système formalisé</a:t>
                </a:r>
                <a:br>
                  <a:rPr sz="1200"/>
                </a:b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- Meilleure réactivité</a:t>
                </a:r>
                <a:endParaRPr b="0" lang="en-US" sz="1200" spc="-1" strike="noStrike">
                  <a:solidFill>
                    <a:srgbClr val="02204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ff33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 </a:t>
                </a: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Pérennité</a:t>
                </a:r>
                <a:br>
                  <a:rPr sz="1200"/>
                </a:br>
                <a:r>
                  <a:rPr b="1" lang="fr-FR" sz="1200" spc="-1" strike="noStrike">
                    <a:solidFill>
                      <a:srgbClr val="ff3300"/>
                    </a:solidFill>
                    <a:latin typeface="Comic Sans MS"/>
                  </a:rPr>
                  <a:t>- Meilleur suivi</a:t>
                </a:r>
                <a:endParaRPr b="0" lang="en-US" sz="12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97760" y="4700520"/>
                <a:ext cx="0" cy="790560"/>
              </a:xfrm>
              <a:prstGeom prst="line">
                <a:avLst/>
              </a:prstGeom>
              <a:ln w="9360">
                <a:solidFill>
                  <a:srgbClr val="022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2204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80880" y="5562720"/>
            <a:ext cx="91440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Comic Sans MS"/>
              </a:rPr>
              <a:t>Performance de la relation Fournisseur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Le Projet e.fournisseur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8610480" y="2203560"/>
            <a:ext cx="1346400" cy="431640"/>
          </a:xfrm>
          <a:prstGeom prst="wedgeEllipseCallout">
            <a:avLst>
              <a:gd name="adj1" fmla="val -63208"/>
              <a:gd name="adj2" fmla="val 119486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22040"/>
                </a:solidFill>
                <a:latin typeface="Comic Sans MS"/>
              </a:rPr>
              <a:t>E-Collab</a:t>
            </a:r>
            <a:endParaRPr b="0" lang="en-US" sz="14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1320" y="4869000"/>
            <a:ext cx="914400" cy="425160"/>
          </a:xfrm>
          <a:prstGeom prst="wedgeEllipseCallout">
            <a:avLst>
              <a:gd name="adj1" fmla="val 102953"/>
              <a:gd name="adj2" fmla="val -12761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22040"/>
                </a:solidFill>
                <a:latin typeface="Comic Sans MS"/>
              </a:rPr>
              <a:t>E-Doc</a:t>
            </a:r>
            <a:endParaRPr b="0" lang="en-US" sz="1400" spc="-1" strike="noStrike">
              <a:solidFill>
                <a:srgbClr val="0220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5360" y="3079800"/>
            <a:ext cx="9630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00440" indent="-100440">
              <a:lnSpc>
                <a:spcPct val="45000"/>
              </a:lnSpc>
              <a:spcBef>
                <a:spcPts val="499"/>
              </a:spcBef>
              <a:buClr>
                <a:srgbClr val="00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marL="100440" indent="-10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mic Sans MS"/>
              </a:rPr>
              <a:t>2 - E.Collab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Echanges on-line: Commandes, Prévisions de livraison, 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Livraisons, Réceptions 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marL="100440" indent="-10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Fiabilité de la diffusion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lvl="1" marL="559440" indent="3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Visibilité pour les responsables donneur d’ordre et 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fournisseurs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lvl="1" marL="559440" indent="3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Introduire de nouveaux modes de fonctionnement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00" y="5562720"/>
            <a:ext cx="91440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Comic Sans MS"/>
              </a:rPr>
              <a:t>Fiabilisation – Collaboration – Rapidité - Economie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Objectifs du projet e.fournisseur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25360" y="635040"/>
            <a:ext cx="9630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90000" indent="-90000">
              <a:lnSpc>
                <a:spcPct val="45000"/>
              </a:lnSpc>
              <a:spcBef>
                <a:spcPts val="451"/>
              </a:spcBef>
              <a:buClr>
                <a:srgbClr val="00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90000" indent="-9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Améliorer et structurer la communication entre acteurs Snecma-Moteurs et Fournisseurs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5360" y="1617840"/>
            <a:ext cx="9630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1520" indent="-101520">
              <a:lnSpc>
                <a:spcPct val="45000"/>
              </a:lnSpc>
              <a:spcBef>
                <a:spcPts val="451"/>
              </a:spcBef>
              <a:buClr>
                <a:srgbClr val="00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mic Sans MS"/>
              </a:rPr>
              <a:t>1 - E.doc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Mettre en ligne la documentation technique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S’assurer que le fournisseur est en possession de toutes 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  les exigences pour réaliser les produits/prestations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mic Sans MS"/>
              </a:rPr>
              <a:t>- Diminuer la non-qualité des produits/prestations</a:t>
            </a: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20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Intérêts du projet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552600" y="1214280"/>
            <a:ext cx="8883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Etablissement de relations d ’Entreprise étendue, plus transparentes et plus efficaces, portées par le site Internet Snecma-Moteurs  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Réduction du cycle de traitement des commandes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Visibilité partagée avec informations en temps réel 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Réduction des dysfonctionnements logistiques en amont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Optimisation de la production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Réduction des litiges factures en amont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  <a:p>
            <a:pPr marL="187200" indent="-187200">
              <a:lnSpc>
                <a:spcPct val="135000"/>
              </a:lnSpc>
              <a:spcBef>
                <a:spcPts val="675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76bd9"/>
                </a:solidFill>
                <a:latin typeface="Comic Sans MS"/>
              </a:rPr>
              <a:t>Amélioration réciproque de l’image de marque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0" y="5499000"/>
            <a:ext cx="914400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r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Comic Sans MS"/>
              </a:rPr>
              <a:t>Nouvelles relations d’échanges orientées vers le progrès</a:t>
            </a:r>
            <a:endParaRPr b="0" lang="en-US" sz="1800" spc="-1" strike="noStrike">
              <a:solidFill>
                <a:srgbClr val="0220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Le déploiement du projet coté Fournisseur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6360" y="1520640"/>
            <a:ext cx="86058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Exigences opérationnelles minimu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Chaque utilisateur doit avoir une adresse e-Mai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Il doit pouvoir utiliser dans le cadre de son travail un ordinateur PC avec connexion Internet (Modem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Exigences juridiques minimum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Un protocole d’accès au portail internet Snecma Moteur est envoyé à chaque Fournisseu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Chaque fournisseur signe un formulaire d’acceptati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0400" indent="-230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Ce document à valeur juridique a pour but de protéger les échanges d’information par l’intermédiaire du portail fournisseu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Chaque Fournisseur désigne parmi ses employés un ADE (Administrateur Délégué Extern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0400" indent="-230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Qui effectue la gestion des employés du fournisseu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Gestion et information des utilisateurs Fournisseur par l’AD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Navigation intern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Le déploiement du projet coté Fournisseur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0200" y="2130480"/>
            <a:ext cx="860580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Numérisation des échang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Intégrabilité des données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pour une meilleure gestion inter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Intégrabilité vers les autres N+1 ou N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33"/>
                </a:solidFill>
                <a:latin typeface="Arial"/>
              </a:rPr>
              <a:t>Gestion de Productio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Développement de la collaboration par l’entreprise étendue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33"/>
                </a:solidFill>
                <a:latin typeface="Arial"/>
              </a:rPr>
              <a:t>Evolution des compétences du personn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Modes d’utilisation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080" y="1142640"/>
            <a:ext cx="923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ode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 dépend du volume d’échanges commerciaux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% Fournisseur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commandes par mois, o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nombre de référen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Mode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nuel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 si le volume se compte en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unités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50% </a:t>
            </a:r>
            <a:r>
              <a:rPr b="1" lang="fr-FR" sz="1600" spc="-1" strike="noStrike">
                <a:solidFill>
                  <a:srgbClr val="990033"/>
                </a:solidFill>
                <a:latin typeface="Symbol"/>
                <a:ea typeface="Symbol"/>
              </a:rPr>
              <a:t>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  <a:ea typeface="Arial"/>
              </a:rPr>
              <a:t> 40%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Notification par e-Ma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Connexion au portail et traitement en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7720" indent="-22572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Acceptation/refus de command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07720" indent="-22572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Accusé de réception de docu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Mode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Téléchargement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 si le volume se compte en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dizaines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50% </a:t>
            </a:r>
            <a:r>
              <a:rPr b="1" lang="fr-FR" sz="1600" spc="-1" strike="noStrike">
                <a:solidFill>
                  <a:srgbClr val="990033"/>
                </a:solidFill>
                <a:latin typeface="Symbol"/>
                <a:ea typeface="Symbol"/>
              </a:rPr>
              <a:t>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  <a:ea typeface="Arial"/>
              </a:rPr>
              <a:t> 20%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Notification par e-Ma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Connexion au portail et téléchargement en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7720" indent="-22572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Traitement en ligne uniquement pour les refus ou modifications de command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07720" indent="-22572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Macro Excel pour chargement dans l’ER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Mode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intégré</a:t>
            </a: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 si le volume se compte en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centaines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  <a:ea typeface="Arial"/>
              </a:rPr>
              <a:t>ε    </a:t>
            </a:r>
            <a:r>
              <a:rPr b="1" lang="fr-FR" sz="1600" spc="-1" strike="noStrike">
                <a:solidFill>
                  <a:srgbClr val="990033"/>
                </a:solidFill>
                <a:latin typeface="Symbol"/>
                <a:ea typeface="Symbol"/>
              </a:rPr>
              <a:t></a:t>
            </a:r>
            <a:r>
              <a:rPr b="1" lang="fr-FR" sz="1600" spc="-1" strike="noStrike">
                <a:solidFill>
                  <a:srgbClr val="990033"/>
                </a:solidFill>
                <a:latin typeface="Arial"/>
                <a:ea typeface="Arial"/>
              </a:rPr>
              <a:t> 40%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as de connexion au portail par des utilisateurs Fournisseur, ma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Connexion directe SI - S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349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Attente des spécifications Boost Aero avant de lancer le développement informatiqu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158760"/>
          <a:ext cx="9906120" cy="574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760"/>
                    <a:ext cx="990612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E-Collab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784080"/>
          <a:ext cx="9906120" cy="528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4080"/>
                    <a:ext cx="9906120" cy="52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omic Sans MS"/>
              </a:rPr>
              <a:t>Déploiement rapide</a:t>
            </a:r>
            <a:endParaRPr b="1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6360" y="1142640"/>
            <a:ext cx="860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odalités pratiques de déploiement simples et non conflictuell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Un protocole d’accès équitable et non prévu pour être négocié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choix d’un ADE, point focal du Fournisseu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Applications web dans le sens de l’histoi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Centré sur les métiers, informations sensibles, et à forte priorité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Utilisation intuitive (pas/peu de formation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19:52Z</dcterms:created>
  <dc:creator/>
  <dc:description/>
  <dc:language>en-US</dc:language>
  <cp:lastModifiedBy>Faure</cp:lastModifiedBy>
  <cp:lastPrinted>2002-12-06T13:37:54Z</cp:lastPrinted>
  <dcterms:modified xsi:type="dcterms:W3CDTF">2004-10-05T23:43:26Z</dcterms:modified>
  <cp:revision>206</cp:revision>
  <dc:subject/>
  <dc:title>Le Projet e.fournisseur</dc:title>
</cp:coreProperties>
</file>