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19CA-1AA4-4FE9-82E5-8B72778C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801828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1360" y="5524920"/>
            <a:ext cx="801828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5DFE-AABF-43C9-ABE1-4E68E8FE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1360" y="55249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80400" y="55249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7C18-F5C7-4779-9F49-616A7010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82520" y="46591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93320" y="46591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1360" y="55249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82520" y="55249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93320" y="55249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3605-2B95-401A-A5F2-05CF9D5D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71360" y="4659120"/>
            <a:ext cx="80182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801828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26920" y="1052280"/>
            <a:ext cx="7772400" cy="40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1360" y="55249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1360" y="4659120"/>
            <a:ext cx="801828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9BA4-D0D7-4D1A-B6C8-67B9046A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80400" y="55249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71360" y="5524920"/>
            <a:ext cx="801828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801828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71360" y="5524920"/>
            <a:ext cx="801828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71360" y="55249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80400" y="55249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82520" y="46591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93320" y="46591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71360" y="55249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82520" y="55249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93320" y="5524920"/>
            <a:ext cx="258156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801828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B113-3525-4FEC-A00F-5472166B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19EF-9C2B-445F-BA81-ECB31A47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D9DD-43C3-40E0-B9CD-D80C881D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6920" y="1052280"/>
            <a:ext cx="7772400" cy="40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96E4-50C1-4BAB-BE6F-771EC23A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1360" y="55249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64A6-6DB3-4969-8A58-961F8B0E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80400" y="55249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9425-9F93-4C6A-A15A-10983FF9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136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0400" y="4659120"/>
            <a:ext cx="391284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1360" y="5524920"/>
            <a:ext cx="8018280" cy="79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3F9F-AF3A-4031-B849-929A2E0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000" y="6580080"/>
            <a:ext cx="228600" cy="209520"/>
          </a:xfrm>
          <a:prstGeom prst="ellipse">
            <a:avLst/>
          </a:prstGeom>
          <a:noFill/>
          <a:ln w="9360">
            <a:solidFill>
              <a:srgbClr val="b6c5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4840" y="130320"/>
            <a:ext cx="8064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18eb5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718eb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7800" y="6575400"/>
            <a:ext cx="322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8A57-613C-4A31-A5BA-C54C66DFA581}" type="slidenum">
              <a:rPr b="0" lang="en-US" sz="8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68040" y="1085760"/>
            <a:ext cx="7824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79440" indent="-378000">
              <a:spcBef>
                <a:spcPts val="601"/>
              </a:spcBef>
              <a:buClr>
                <a:srgbClr val="123e6e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71400" indent="-29052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950760" indent="-277560">
              <a:spcBef>
                <a:spcPts val="601"/>
              </a:spcBef>
              <a:buClr>
                <a:srgbClr val="336699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243080" indent="-290520">
              <a:spcBef>
                <a:spcPts val="601"/>
              </a:spcBef>
              <a:buClr>
                <a:srgbClr val="336699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1243080" indent="-290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1243080" indent="-290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 rot="10801200">
            <a:off x="0" y="658440"/>
            <a:ext cx="19836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33669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99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98520" y="6535800"/>
            <a:ext cx="6423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674200" y="15084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767640" y="6357960"/>
            <a:ext cx="2428920" cy="60480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0" y="387360"/>
            <a:ext cx="9144000" cy="457200"/>
            <a:chOff x="0" y="387360"/>
            <a:chExt cx="9144000" cy="457200"/>
          </a:xfrm>
        </p:grpSpPr>
        <p:sp>
          <p:nvSpPr>
            <p:cNvPr id="9" name=""/>
            <p:cNvSpPr/>
            <p:nvPr/>
          </p:nvSpPr>
          <p:spPr>
            <a:xfrm>
              <a:off x="534960" y="387360"/>
              <a:ext cx="0" cy="45720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6960" y="496800"/>
              <a:ext cx="216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4"/>
          </p:nvPr>
        </p:nvSpPr>
        <p:spPr>
          <a:xfrm>
            <a:off x="398160" y="6535800"/>
            <a:ext cx="6211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74200" y="132084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767640" y="6357960"/>
            <a:ext cx="2428920" cy="6048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2136600"/>
            <a:ext cx="9144000" cy="2474280"/>
            <a:chOff x="0" y="2136600"/>
            <a:chExt cx="9144000" cy="2474280"/>
          </a:xfrm>
        </p:grpSpPr>
        <p:sp>
          <p:nvSpPr>
            <p:cNvPr id="53" name=""/>
            <p:cNvSpPr/>
            <p:nvPr/>
          </p:nvSpPr>
          <p:spPr>
            <a:xfrm>
              <a:off x="1351080" y="4303800"/>
              <a:ext cx="604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r" pos="766800"/>
                  <a:tab algn="r" pos="2857680"/>
                  <a:tab algn="r" pos="53308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b6c5da"/>
                  </a:solidFill>
                  <a:latin typeface="Arial"/>
                </a:rPr>
                <a:t>I  T  &amp; S </a:t>
              </a:r>
              <a:r>
                <a:rPr b="1" i="1" lang="en-US" sz="1400" spc="-1" strike="noStrike">
                  <a:solidFill>
                    <a:srgbClr val="b6c5da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b6c5da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b6c5da"/>
                  </a:solidFill>
                  <a:latin typeface="Arial"/>
                </a:rPr>
                <a:t>A  e  r  o  s  p  a  c  e</a:t>
              </a:r>
              <a:r>
                <a:rPr b="1" i="1" lang="en-US" sz="1400" spc="-1" strike="noStrike">
                  <a:solidFill>
                    <a:srgbClr val="b6c5da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b6c5da"/>
                  </a:solidFill>
                  <a:latin typeface="Arial"/>
                </a:rPr>
                <a:t>D  e  f  e  n  c  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0" y="2136600"/>
              <a:ext cx="914400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481640" y="2973240"/>
              <a:ext cx="0" cy="146376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35560" y="4419720"/>
              <a:ext cx="96840" cy="9684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3240" y="2857680"/>
              <a:ext cx="149400" cy="1490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94360" y="2590920"/>
              <a:ext cx="0" cy="1846080"/>
            </a:xfrm>
            <a:prstGeom prst="line">
              <a:avLst/>
            </a:prstGeom>
            <a:ln w="284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48640" y="4414680"/>
              <a:ext cx="96840" cy="96840"/>
            </a:xfrm>
            <a:prstGeom prst="ellipse">
              <a:avLst/>
            </a:prstGeom>
            <a:solidFill>
              <a:srgbClr val="a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23080" y="2470320"/>
              <a:ext cx="149400" cy="1490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181240" y="3699000"/>
              <a:ext cx="149040" cy="804600"/>
              <a:chOff x="2181240" y="3699000"/>
              <a:chExt cx="149040" cy="804600"/>
            </a:xfrm>
          </p:grpSpPr>
          <p:sp>
            <p:nvSpPr>
              <p:cNvPr id="62" name=""/>
              <p:cNvSpPr/>
              <p:nvPr/>
            </p:nvSpPr>
            <p:spPr>
              <a:xfrm>
                <a:off x="2251080" y="3790800"/>
                <a:ext cx="0" cy="627120"/>
              </a:xfrm>
              <a:prstGeom prst="line">
                <a:avLst/>
              </a:prstGeom>
              <a:ln w="284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3560" y="4406760"/>
                <a:ext cx="96840" cy="968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181240" y="3699000"/>
                <a:ext cx="149040" cy="14904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1440" algn="ctr">
              <a:spcBef>
                <a:spcPts val="825"/>
              </a:spcBef>
              <a:buClr>
                <a:srgbClr val="123e6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23e6e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23e6e"/>
              </a:solidFill>
              <a:latin typeface="Arial"/>
            </a:endParaRPr>
          </a:p>
          <a:p>
            <a:pPr lvl="2" marL="380880" algn="ctr">
              <a:spcBef>
                <a:spcPts val="751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673200" algn="ctr">
              <a:spcBef>
                <a:spcPts val="451"/>
              </a:spcBef>
              <a:buClr>
                <a:srgbClr val="3366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952560" algn="ctr">
              <a:spcBef>
                <a:spcPts val="400"/>
              </a:spcBef>
              <a:buClr>
                <a:srgbClr val="336699"/>
              </a:buClr>
              <a:buSzPct val="4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952560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952560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99"/>
                </a:solidFill>
                <a:latin typeface="Arial"/>
              </a:rPr>
              <a:t>EXINDU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160" y="4879440"/>
            <a:ext cx="801828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"/>
              </a:rPr>
              <a:t>Un Extranet dédié aux fournisseur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"/>
              </a:rPr>
              <a:t>du groupe THAL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ET Industrie - F. WENDLING</a:t>
            </a: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000" y="0"/>
            <a:ext cx="840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INDUS : Flux trimestriels</a:t>
            </a:r>
            <a:endParaRPr b="1" lang="en-US" sz="2400" spc="-1" strike="noStrike">
              <a:solidFill>
                <a:srgbClr val="718eb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400" y="1001520"/>
            <a:ext cx="842004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Résultats e-Coop durant Q1 2004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77760" indent="-406080">
              <a:spcBef>
                <a:spcPts val="825"/>
              </a:spcBef>
              <a:buClr>
                <a:srgbClr val="123e6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123e6e"/>
                </a:solidFill>
                <a:latin typeface="Arial"/>
              </a:rPr>
              <a:t>5 unités Thales différentes</a:t>
            </a:r>
            <a:endParaRPr b="0" lang="en-US" sz="22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-406080">
              <a:spcBef>
                <a:spcPts val="825"/>
              </a:spcBef>
              <a:buClr>
                <a:srgbClr val="123e6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123e6e"/>
                </a:solidFill>
                <a:latin typeface="Arial"/>
              </a:rPr>
              <a:t>10 sous-traitants différents</a:t>
            </a:r>
            <a:endParaRPr b="0" lang="en-US" sz="22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-406080">
              <a:spcBef>
                <a:spcPts val="825"/>
              </a:spcBef>
              <a:buClr>
                <a:srgbClr val="123e6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123e6e"/>
                </a:solidFill>
                <a:latin typeface="Arial"/>
              </a:rPr>
              <a:t>3979 fichiers transférés</a:t>
            </a:r>
            <a:endParaRPr b="0" lang="en-US" sz="22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spcBef>
                <a:spcPts val="8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23e6e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Résultats e-Coop durant Q2 et Q3 2004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77760" indent="-406080">
              <a:spcBef>
                <a:spcPts val="825"/>
              </a:spcBef>
              <a:buClr>
                <a:srgbClr val="123e6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123e6e"/>
                </a:solidFill>
                <a:latin typeface="Arial"/>
              </a:rPr>
              <a:t>9 unités Thales différentes (yc 1 unité en UK)</a:t>
            </a:r>
            <a:endParaRPr b="0" lang="en-US" sz="22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-406080">
              <a:spcBef>
                <a:spcPts val="825"/>
              </a:spcBef>
              <a:buClr>
                <a:srgbClr val="123e6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123e6e"/>
                </a:solidFill>
                <a:latin typeface="Arial"/>
              </a:rPr>
              <a:t>29 sous-traitants différents</a:t>
            </a:r>
            <a:endParaRPr b="0" lang="en-US" sz="22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-406080">
              <a:spcBef>
                <a:spcPts val="825"/>
              </a:spcBef>
              <a:buClr>
                <a:srgbClr val="123e6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123e6e"/>
                </a:solidFill>
                <a:latin typeface="Arial"/>
              </a:rPr>
              <a:t>8051 fichiers transférés</a:t>
            </a:r>
            <a:endParaRPr b="0" lang="en-US" sz="2200" spc="-1" strike="noStrike">
              <a:solidFill>
                <a:srgbClr val="123e6e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F022-B380-43A1-BAD5-07084BD9B6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2880" y="712800"/>
            <a:ext cx="7807320" cy="5495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576600" y="4681440"/>
            <a:ext cx="1596960" cy="1201680"/>
          </a:xfrm>
          <a:prstGeom prst="ellipse">
            <a:avLst/>
          </a:prstGeom>
          <a:noFill/>
          <a:ln w="38160">
            <a:solidFill>
              <a:srgbClr val="fa0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049720" y="4352760"/>
            <a:ext cx="873360" cy="614520"/>
          </a:xfrm>
          <a:prstGeom prst="line">
            <a:avLst/>
          </a:prstGeom>
          <a:ln w="57240">
            <a:solidFill>
              <a:srgbClr val="fa02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5200" y="158760"/>
            <a:ext cx="707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quest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 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 Q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otation  - 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quest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 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 I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FB63-7EEE-47EA-BD5A-4366F0D2BE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000" y="0"/>
            <a:ext cx="840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e module RFx : gestion des Appels d’Offre</a:t>
            </a:r>
            <a:endParaRPr b="1" lang="en-US" sz="2400" spc="-1" strike="noStrike">
              <a:solidFill>
                <a:srgbClr val="718eb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001520"/>
            <a:ext cx="842004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Objectifs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ournir un outil gérant le processus d’appel d’offre et intégrant les différents acteurs internes et exter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77760" indent="-406080">
              <a:spcBef>
                <a:spcPts val="751"/>
              </a:spcBef>
              <a:buClr>
                <a:srgbClr val="123e6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Dans un cadre structuré :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- processus standard : grilles de réponse, carnet d’adresses 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- outils d’aide à l’analyse et à la décision, 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- accès sécurisé,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- traçabilité.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F226-41F0-4BA2-83A7-A228C965E4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55520" y="0"/>
            <a:ext cx="7504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RFx   - Supplier extension</a:t>
            </a:r>
            <a:r>
              <a:rPr b="1" lang="en-GB" sz="1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6920" y="801720"/>
          <a:ext cx="8488440" cy="32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801720"/>
                    <a:ext cx="848844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390680" y="2503440"/>
          <a:ext cx="7429320" cy="390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0680" y="2503440"/>
                    <a:ext cx="742932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AA3D-7541-46F3-8E0D-806F1DB8EA2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09560" y="1201680"/>
            <a:ext cx="6861240" cy="5340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838600" y="773280"/>
            <a:ext cx="47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r le segment ST Mécanique  ( 1er semestre 2004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5280"/>
            <a:ext cx="86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  <a:ea typeface="Arial"/>
              </a:rPr>
              <a:t>Utilisation du module RFx dans une unité T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B0D1-5CD1-45FB-87CF-0F7929C1615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46980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Fin de la </a:t>
            </a:r>
            <a:r>
              <a:rPr b="1" lang="fr-FR" sz="3600" spc="-1" strike="noStrike">
                <a:solidFill>
                  <a:srgbClr val="336699"/>
                </a:solidFill>
                <a:latin typeface="Arial"/>
              </a:rPr>
              <a:t>présenta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85640" y="5354640"/>
            <a:ext cx="80186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ET Industrie - F. WENDLING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89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3333cc"/>
                </a:solidFill>
                <a:latin typeface="Arial"/>
                <a:ea typeface="Arial"/>
              </a:rPr>
              <a:t>Les services offerts par EXIND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85800"/>
            <a:ext cx="861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0720" y="2554200"/>
            <a:ext cx="109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Industrial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0200" y="2451240"/>
            <a:ext cx="5257800" cy="2427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2160" y="2428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9960" y="5537160"/>
            <a:ext cx="781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560" y="636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Des espaces communs structurés par entreprises, affaires et suj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7080" y="20970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u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73480" y="1851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25800" y="2021040"/>
            <a:ext cx="21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urement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9880" y="255420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urchasing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3400" y="4154400"/>
            <a:ext cx="99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upplier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M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64960" y="438300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jec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8440" y="486720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upplier Project Engine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40440" y="47545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Design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Off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Desig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4240" y="2571840"/>
            <a:ext cx="151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66"/>
                </a:solidFill>
                <a:latin typeface="Arial"/>
              </a:rPr>
              <a:t>PERFORM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66"/>
                </a:solidFill>
                <a:latin typeface="Arial"/>
              </a:rPr>
              <a:t>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86560" y="29052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66"/>
                </a:solidFill>
                <a:latin typeface="Arial"/>
              </a:rPr>
              <a:t>LOGISTIC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66"/>
                </a:solidFill>
                <a:latin typeface="Arial"/>
              </a:rPr>
              <a:t>PLATFO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36240" y="3929040"/>
            <a:ext cx="119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66"/>
                </a:solidFill>
                <a:latin typeface="Arial"/>
              </a:rPr>
              <a:t>CO-DESIG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66"/>
                </a:solidFill>
                <a:latin typeface="Arial"/>
              </a:rPr>
              <a:t>( in progress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5240" y="3691080"/>
            <a:ext cx="15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DATA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43020"/>
                </a:solidFill>
                <a:latin typeface="Arial"/>
              </a:rPr>
              <a:t>e-C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76320" y="3622680"/>
            <a:ext cx="523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5920" y="32259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43020"/>
                </a:solidFill>
                <a:latin typeface="Arial"/>
              </a:rPr>
              <a:t>e-Log : Collaborative ro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3480" y="270036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66"/>
                </a:solidFill>
                <a:latin typeface="Arial"/>
              </a:rPr>
              <a:t>QUOTATION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66"/>
                </a:solidFill>
                <a:latin typeface="Arial"/>
              </a:rPr>
              <a:t>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2160" y="317664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43020"/>
                </a:solidFill>
                <a:latin typeface="Arial"/>
              </a:rPr>
              <a:t>R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5F29-99C5-4327-94AA-EC1E13176D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2880" y="712800"/>
            <a:ext cx="7807320" cy="5495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816520" y="4641840"/>
            <a:ext cx="2181240" cy="1201680"/>
          </a:xfrm>
          <a:prstGeom prst="ellipse">
            <a:avLst/>
          </a:prstGeom>
          <a:noFill/>
          <a:ln w="38160">
            <a:solidFill>
              <a:srgbClr val="fa02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07160" y="4167360"/>
            <a:ext cx="873360" cy="614160"/>
          </a:xfrm>
          <a:prstGeom prst="line">
            <a:avLst/>
          </a:prstGeom>
          <a:ln w="57240">
            <a:solidFill>
              <a:srgbClr val="fa02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E941-70DC-48AC-BB50-F9B7D351BDC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6720" y="2060640"/>
            <a:ext cx="5805720" cy="900000"/>
          </a:xfrm>
          <a:prstGeom prst="rect">
            <a:avLst/>
          </a:prstGeom>
          <a:solidFill>
            <a:srgbClr val="ffffcc"/>
          </a:solidFill>
          <a:ln w="9360">
            <a:solidFill>
              <a:srgbClr val="a7c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6320" y="2081160"/>
            <a:ext cx="5805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66"/>
                </a:solidFill>
                <a:uFillTx/>
                <a:latin typeface="Arial"/>
              </a:rPr>
              <a:t>e-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general &amp; supplier ro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66"/>
                </a:solidFill>
                <a:uFillTx/>
                <a:latin typeface="Arial"/>
              </a:rPr>
              <a:t>e-C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upplier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4C25-CE75-4D9B-B0AB-4A8675BC6B0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6120" y="816120"/>
            <a:ext cx="85489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366"/>
                </a:solidFill>
                <a:uFillTx/>
                <a:latin typeface="Arial"/>
              </a:rPr>
              <a:t>General rooms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Technological capabilities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PCB policy  ( global vision to PCA suppliers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Technological reference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Thales Industrial Referenc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General Documents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purch.gene. cond. &amp; sub-contr. general co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Component data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Dedicated  inform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3366"/>
                </a:solidFill>
                <a:uFillTx/>
                <a:latin typeface="Arial"/>
              </a:rPr>
              <a:t>Supplier rooms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 ( agreements , techno capabilities , KPIs 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PCBs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  7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Electronic s-cont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Mechanical s-cont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14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Components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  4</a:t>
            </a: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95360" y="11592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e-Log   ( Collaborative space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7486-DE73-40E3-85A9-740C190BBE3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19040" y="3676680"/>
            <a:ext cx="5805720" cy="900000"/>
          </a:xfrm>
          <a:prstGeom prst="rect">
            <a:avLst/>
          </a:prstGeom>
          <a:solidFill>
            <a:srgbClr val="ffffcc"/>
          </a:solidFill>
          <a:ln w="9360">
            <a:solidFill>
              <a:srgbClr val="a7c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6320" y="2081160"/>
            <a:ext cx="5805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66"/>
                </a:solidFill>
                <a:uFillTx/>
                <a:latin typeface="Arial"/>
              </a:rPr>
              <a:t>e-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general &amp; supplier ro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66"/>
                </a:solidFill>
                <a:uFillTx/>
                <a:latin typeface="Arial"/>
              </a:rPr>
              <a:t>e-C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supplier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85BD-9D84-4D95-A724-2F17E9A3DEC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000" y="0"/>
            <a:ext cx="840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e module e-Coop : échange de données techniques</a:t>
            </a:r>
            <a:endParaRPr b="1" lang="en-US" sz="2400" spc="-1" strike="noStrike">
              <a:solidFill>
                <a:srgbClr val="718eb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5400" y="1001520"/>
            <a:ext cx="842004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Objectifs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Fournir un outil permettant l’échange de données techniques entre les différents acte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77760" indent="-406080">
              <a:lnSpc>
                <a:spcPct val="90000"/>
              </a:lnSpc>
              <a:spcBef>
                <a:spcPts val="751"/>
              </a:spcBef>
              <a:buClr>
                <a:srgbClr val="123e6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Dans un cadre structuré :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- processus standard, 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- traçabilité, 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- accès sécurisé,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- fort volume de données échangé.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  <a:p>
            <a:pPr lvl="1" marL="977760" indent="-406080">
              <a:lnSpc>
                <a:spcPct val="90000"/>
              </a:lnSpc>
              <a:spcBef>
                <a:spcPts val="751"/>
              </a:spcBef>
              <a:buClr>
                <a:srgbClr val="123e6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23e6e"/>
                </a:solidFill>
                <a:latin typeface="Arial"/>
              </a:rPr>
              <a:t>En tenant compte de certains besoins spécifiques (échange unidirectionnel ou bidirectionnel, forums dédiés permettant la capitalisation d’information, notifications des nouvelles publications, …)</a:t>
            </a:r>
            <a:endParaRPr b="0" lang="en-US" sz="2000" spc="-1" strike="noStrike">
              <a:solidFill>
                <a:srgbClr val="123e6e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8600" y="5934240"/>
            <a:ext cx="83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e-Coop n’est pas un outil de gestion</a:t>
            </a: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20E3-F3D1-4B61-AD72-C9F7647671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38280" y="130320"/>
            <a:ext cx="70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THALES units exten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24000" y="3490920"/>
          <a:ext cx="76262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490920"/>
                    <a:ext cx="76262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80880" y="668160"/>
          <a:ext cx="7739280" cy="30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668160"/>
                    <a:ext cx="77392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EBFE-C7EB-49A7-8006-A6F7E115E07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-235080" y="703440"/>
          <a:ext cx="9061560" cy="27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5080" y="703440"/>
                    <a:ext cx="9061560" cy="27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0" y="3456000"/>
          <a:ext cx="9144000" cy="28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456000"/>
                    <a:ext cx="914400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496880" y="135000"/>
            <a:ext cx="70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Suppliers exten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ET Industrie - F. WENDL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D3CA-537C-4EEE-B405-20AF5FB27FA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6 Octobre 2004 - COPIL e-PME Exindus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7:24:08Z</dcterms:created>
  <dc:creator>TTS</dc:creator>
  <dc:description/>
  <dc:language>en-US</dc:language>
  <cp:lastModifiedBy>wendling</cp:lastModifiedBy>
  <cp:lastPrinted>2002-11-18T07:48:06Z</cp:lastPrinted>
  <dcterms:modified xsi:type="dcterms:W3CDTF">2004-10-05T13:27:42Z</dcterms:modified>
  <cp:revision>96</cp:revision>
  <dc:subject/>
  <dc:title>Présentation PowerPoint</dc:title>
</cp:coreProperties>
</file>